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7A5-7FE0-4DE0-AB2B-158FF378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B4B-4746-4BD9-B8F3-8FD75F6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B7C-EC68-4289-928B-CAC13997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32D-0A07-41AD-A945-49B9521B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9BD-B6ED-4C51-8119-7CE3EE0C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A30-09E1-49A5-9D8A-5E8954D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519-7C06-4325-B2BF-D288C983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A44-3741-4800-9974-9ADB12C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AB6-AB17-4633-973D-C567CF9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5CA-2FAC-45E4-A8D1-35F9B8B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948-4C39-47E0-AB17-215D4D3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B3D-9F22-40B6-8401-91593EC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B844-5243-4040-8EB2-5D28648AF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audio" Target="../media/Musica%20Menu%20Popu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773240" y="1295280"/>
            <a:ext cx="3538080" cy="155628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Ma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03640" y="3860640"/>
            <a:ext cx="3407040" cy="9471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For Room 3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c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till the 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1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2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2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3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2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4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2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5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2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6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2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7=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2=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8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2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9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2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10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2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 times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2x anything means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ust  double th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fore or after 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2x4= 4+4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can skip count in 2’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588000" y="692280"/>
            <a:ext cx="2016360" cy="466776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0+0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+1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+2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3+3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4+4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5+5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6+6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7+7=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8+8+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9+9=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0+10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kip 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,4,6,8,10,12,14,16,18,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600360" cy="1554120"/>
          </a:xfrm>
          <a:prstGeom prst="rect">
            <a:avLst/>
          </a:prstGeom>
          <a:ln w="0">
            <a:noFill/>
          </a:ln>
        </p:spPr>
      </p:pic>
      <p:sp>
        <p:nvSpPr>
          <p:cNvPr id="54" name="Curved Down Arrow 9"/>
          <p:cNvSpPr/>
          <p:nvPr/>
        </p:nvSpPr>
        <p:spPr>
          <a:xfrm>
            <a:off x="1116000" y="3933720"/>
            <a:ext cx="495360" cy="287280"/>
          </a:xfrm>
          <a:custGeom>
            <a:avLst/>
            <a:gdLst>
              <a:gd name="textAreaLeft" fmla="*/ 84600 w 495360"/>
              <a:gd name="textAreaRight" fmla="*/ 254160 w 495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88" hR="21600" stAng="10800000" swAng="5400000"/>
                <a:lnTo>
                  <a:pt x="7388" y="0"/>
                </a:lnTo>
                <a:arcTo wR="7388" hR="21600" stAng="-5400000" swAng="3177082"/>
                <a:lnTo>
                  <a:pt x="21365" y="16200"/>
                </a:lnTo>
                <a:lnTo>
                  <a:pt x="14776" y="21600"/>
                </a:lnTo>
                <a:lnTo>
                  <a:pt x="7717" y="16200"/>
                </a:lnTo>
                <a:lnTo>
                  <a:pt x="14541" y="16200"/>
                </a:lnTo>
                <a:arcTo wR="7388" hR="21600" stAng="-2222918" swAng="-3177082"/>
                <a:lnTo>
                  <a:pt x="7388" y="0"/>
                </a:lnTo>
                <a:arcTo wR="7388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7388" hR="21600" stAng="10800000" swAng="5400000"/>
                <a:lnTo>
                  <a:pt x="7388" y="0"/>
                </a:lnTo>
                <a:arcTo wR="7388" hR="21600" stAng="-5400000" swAng="0"/>
                <a:lnTo>
                  <a:pt x="7388" y="0"/>
                </a:lnTo>
                <a:arcTo wR="7388" hR="21600" stAng="-540000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urved Down Arrow 10"/>
          <p:cNvSpPr/>
          <p:nvPr/>
        </p:nvSpPr>
        <p:spPr>
          <a:xfrm>
            <a:off x="1547640" y="4005360"/>
            <a:ext cx="648000" cy="215640"/>
          </a:xfrm>
          <a:custGeom>
            <a:avLst/>
            <a:gdLst>
              <a:gd name="textAreaLeft" fmla="*/ 132480 w 648000"/>
              <a:gd name="textAreaRight" fmla="*/ 397800 w 648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1" hR="21600" stAng="10800000" swAng="5400000"/>
                <a:lnTo>
                  <a:pt x="8842" y="0"/>
                </a:lnTo>
                <a:arcTo wR="8841" hR="21600" stAng="-5400000" swAng="3465323"/>
                <a:lnTo>
                  <a:pt x="21319" y="16200"/>
                </a:lnTo>
                <a:lnTo>
                  <a:pt x="17683" y="21600"/>
                </a:lnTo>
                <a:lnTo>
                  <a:pt x="13484" y="16200"/>
                </a:lnTo>
                <a:lnTo>
                  <a:pt x="17401" y="16200"/>
                </a:lnTo>
                <a:arcTo wR="8841" hR="21600" stAng="-1934677" swAng="-3465243"/>
                <a:lnTo>
                  <a:pt x="8842" y="0"/>
                </a:lnTo>
                <a:arcTo wR="8841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8841" hR="21600" stAng="10800000" swAng="5400000"/>
                <a:lnTo>
                  <a:pt x="8841" y="0"/>
                </a:lnTo>
                <a:arcTo wR="8841" hR="21600" stAng="-5400000" swAng="80"/>
                <a:lnTo>
                  <a:pt x="8842" y="0"/>
                </a:lnTo>
                <a:arcTo wR="8841" hR="21600" stAng="-5400080" swAng="-539992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urved Down Arrow 11"/>
          <p:cNvSpPr/>
          <p:nvPr/>
        </p:nvSpPr>
        <p:spPr>
          <a:xfrm>
            <a:off x="2124000" y="4005360"/>
            <a:ext cx="647640" cy="215640"/>
          </a:xfrm>
          <a:custGeom>
            <a:avLst/>
            <a:gdLst>
              <a:gd name="textAreaLeft" fmla="*/ 132480 w 647640"/>
              <a:gd name="textAreaRight" fmla="*/ 397800 w 647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1" hR="21600" stAng="10800000" swAng="5400000"/>
                <a:lnTo>
                  <a:pt x="8842" y="0"/>
                </a:lnTo>
                <a:arcTo wR="8841" hR="21600" stAng="-5400000" swAng="3465323"/>
                <a:lnTo>
                  <a:pt x="21319" y="16200"/>
                </a:lnTo>
                <a:lnTo>
                  <a:pt x="17683" y="21600"/>
                </a:lnTo>
                <a:lnTo>
                  <a:pt x="13484" y="16200"/>
                </a:lnTo>
                <a:lnTo>
                  <a:pt x="17401" y="16200"/>
                </a:lnTo>
                <a:arcTo wR="8841" hR="21600" stAng="-1934677" swAng="-3465243"/>
                <a:lnTo>
                  <a:pt x="8842" y="0"/>
                </a:lnTo>
                <a:arcTo wR="8841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8841" hR="21600" stAng="10800000" swAng="5400000"/>
                <a:lnTo>
                  <a:pt x="8841" y="0"/>
                </a:lnTo>
                <a:arcTo wR="8841" hR="21600" stAng="-5400000" swAng="80"/>
                <a:lnTo>
                  <a:pt x="8842" y="0"/>
                </a:lnTo>
                <a:arcTo wR="8841" hR="21600" stAng="-5400080" swAng="-539992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urved Down Arrow 12"/>
          <p:cNvSpPr/>
          <p:nvPr/>
        </p:nvSpPr>
        <p:spPr>
          <a:xfrm>
            <a:off x="2700360" y="4005360"/>
            <a:ext cx="647640" cy="223920"/>
          </a:xfrm>
          <a:custGeom>
            <a:avLst/>
            <a:gdLst>
              <a:gd name="textAreaLeft" fmla="*/ 131400 w 647640"/>
              <a:gd name="textAreaRight" fmla="*/ 394200 w 64764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5" hR="21600" stAng="10800000" swAng="5400000"/>
                <a:lnTo>
                  <a:pt x="8766" y="0"/>
                </a:lnTo>
                <a:arcTo wR="8765" hR="21600" stAng="-5400000" swAng="3451905"/>
                <a:lnTo>
                  <a:pt x="21322" y="16200"/>
                </a:lnTo>
                <a:lnTo>
                  <a:pt x="17531" y="21600"/>
                </a:lnTo>
                <a:lnTo>
                  <a:pt x="13183" y="16200"/>
                </a:lnTo>
                <a:lnTo>
                  <a:pt x="17252" y="16200"/>
                </a:lnTo>
                <a:arcTo wR="8765" hR="21600" stAng="-1948095" swAng="-3451825"/>
                <a:lnTo>
                  <a:pt x="8766" y="0"/>
                </a:lnTo>
                <a:arcTo wR="8765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8765" hR="21600" stAng="10800000" swAng="5400000"/>
                <a:lnTo>
                  <a:pt x="8765" y="0"/>
                </a:lnTo>
                <a:arcTo wR="8765" hR="21600" stAng="-5400000" swAng="80"/>
                <a:lnTo>
                  <a:pt x="8766" y="0"/>
                </a:lnTo>
                <a:arcTo wR="8765" hR="21600" stAng="-5400080" swAng="-539992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1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5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2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5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3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5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5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4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5=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5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6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5=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7=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5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8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5=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9=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10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5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 times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at 5x anything mean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st skip count th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y 5’s. E.g.5x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659640" y="692280"/>
            <a:ext cx="2016000" cy="484884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5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616200" cy="1582920"/>
          </a:xfrm>
          <a:prstGeom prst="rect">
            <a:avLst/>
          </a:prstGeom>
          <a:ln w="0">
            <a:noFill/>
          </a:ln>
        </p:spPr>
      </p:pic>
      <p:sp>
        <p:nvSpPr>
          <p:cNvPr id="65" name="Curved Down Arrow 8"/>
          <p:cNvSpPr/>
          <p:nvPr/>
        </p:nvSpPr>
        <p:spPr>
          <a:xfrm>
            <a:off x="826920" y="3573360"/>
            <a:ext cx="1368720" cy="360360"/>
          </a:xfrm>
          <a:custGeom>
            <a:avLst/>
            <a:gdLst>
              <a:gd name="textAreaLeft" fmla="*/ 308160 w 1368720"/>
              <a:gd name="textAreaRight" fmla="*/ 1015560 w 1368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4" hR="21600" stAng="10800000" swAng="5400000"/>
                <a:lnTo>
                  <a:pt x="11156" y="0"/>
                </a:lnTo>
                <a:arcTo wR="9734" hR="21600" stAng="-5400000" swAng="3611367"/>
                <a:lnTo>
                  <a:pt x="21291" y="16200"/>
                </a:lnTo>
                <a:lnTo>
                  <a:pt x="20179" y="21600"/>
                </a:lnTo>
                <a:lnTo>
                  <a:pt x="18449" y="16200"/>
                </a:lnTo>
                <a:lnTo>
                  <a:pt x="19159" y="16200"/>
                </a:lnTo>
                <a:arcTo wR="9734" hR="21600" stAng="-1788633" swAng="-3497946"/>
                <a:lnTo>
                  <a:pt x="10445" y="58"/>
                </a:lnTo>
                <a:arcTo wR="9734" hR="21600" stAng="-5513421" swAng="-5286579"/>
                <a:close/>
              </a:path>
              <a:path fill="darkenLess" w="21600" h="21600">
                <a:moveTo>
                  <a:pt x="0" y="21600"/>
                </a:moveTo>
                <a:arcTo wR="9734" hR="21600" stAng="10800000" swAng="5400000"/>
                <a:lnTo>
                  <a:pt x="9734" y="0"/>
                </a:lnTo>
                <a:arcTo wR="9734" hR="21600" stAng="-5400000" swAng="113421"/>
                <a:lnTo>
                  <a:pt x="10445" y="58"/>
                </a:lnTo>
                <a:arcTo wR="9734" hR="21600" stAng="-5513421" swAng="-528657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urved Down Arrow 9"/>
          <p:cNvSpPr/>
          <p:nvPr/>
        </p:nvSpPr>
        <p:spPr>
          <a:xfrm>
            <a:off x="2340000" y="3500280"/>
            <a:ext cx="1511280" cy="433440"/>
          </a:xfrm>
          <a:custGeom>
            <a:avLst/>
            <a:gdLst>
              <a:gd name="textAreaLeft" fmla="*/ 337320 w 1511280"/>
              <a:gd name="textAreaRight" fmla="*/ 1119960 w 1511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3" hR="21600" stAng="10800000" swAng="5400000"/>
                <a:lnTo>
                  <a:pt x="11185" y="0"/>
                </a:lnTo>
                <a:arcTo wR="9643" hR="21600" stAng="-5400000" swAng="3597406"/>
                <a:lnTo>
                  <a:pt x="21294" y="16200"/>
                </a:lnTo>
                <a:lnTo>
                  <a:pt x="20057" y="21600"/>
                </a:lnTo>
                <a:lnTo>
                  <a:pt x="18208" y="16200"/>
                </a:lnTo>
                <a:lnTo>
                  <a:pt x="18980" y="16200"/>
                </a:lnTo>
                <a:arcTo wR="9643" hR="21600" stAng="-1802594" swAng="-3474356"/>
                <a:lnTo>
                  <a:pt x="10414" y="69"/>
                </a:lnTo>
                <a:arcTo wR="9643" hR="21600" stAng="-5523050" swAng="-5276950"/>
                <a:close/>
              </a:path>
              <a:path fill="darkenLess" w="21600" h="21600">
                <a:moveTo>
                  <a:pt x="0" y="21600"/>
                </a:moveTo>
                <a:arcTo wR="9643" hR="21600" stAng="10800000" swAng="5400000"/>
                <a:lnTo>
                  <a:pt x="9643" y="0"/>
                </a:lnTo>
                <a:arcTo wR="9643" hR="21600" stAng="-5400000" swAng="123050"/>
                <a:lnTo>
                  <a:pt x="10414" y="69"/>
                </a:lnTo>
                <a:arcTo wR="9643" hR="21600" stAng="-5523050" swAng="-527695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1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10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2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10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3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10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10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4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5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10=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10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6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10=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7=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10=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8=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10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9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10=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 times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at 10x anything means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ust skip count th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1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x10=2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659640" y="692280"/>
            <a:ext cx="2016000" cy="484884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1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3671640" cy="2781000"/>
          </a:xfrm>
          <a:prstGeom prst="rect">
            <a:avLst/>
          </a:prstGeom>
          <a:ln w="0">
            <a:noFill/>
          </a:ln>
        </p:spPr>
      </p:pic>
      <p:sp>
        <p:nvSpPr>
          <p:cNvPr id="74" name="Curved Down Arrow 8"/>
          <p:cNvSpPr/>
          <p:nvPr/>
        </p:nvSpPr>
        <p:spPr>
          <a:xfrm>
            <a:off x="900000" y="2924280"/>
            <a:ext cx="3240360" cy="217440"/>
          </a:xfrm>
          <a:custGeom>
            <a:avLst/>
            <a:gdLst>
              <a:gd name="textAreaLeft" fmla="*/ 789840 w 3240360"/>
              <a:gd name="textAreaRight" fmla="*/ 2423520 w 324036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30" hR="21600" stAng="10800000" swAng="5400000"/>
                <a:lnTo>
                  <a:pt x="10890" y="0"/>
                </a:lnTo>
                <a:arcTo wR="10530" hR="21600" stAng="-5400000" swAng="3725554"/>
                <a:lnTo>
                  <a:pt x="21266" y="16200"/>
                </a:lnTo>
                <a:lnTo>
                  <a:pt x="21240" y="21600"/>
                </a:lnTo>
                <a:lnTo>
                  <a:pt x="20546" y="16200"/>
                </a:lnTo>
                <a:lnTo>
                  <a:pt x="20726" y="16200"/>
                </a:lnTo>
                <a:arcTo wR="10530" hR="21600" stAng="-1674446" swAng="-3696903"/>
                <a:lnTo>
                  <a:pt x="10710" y="3"/>
                </a:lnTo>
                <a:arcTo wR="10530" hR="21600" stAng="-5428651" swAng="-5371349"/>
                <a:close/>
              </a:path>
              <a:path fill="darkenLess" w="21600" h="21600">
                <a:moveTo>
                  <a:pt x="0" y="21600"/>
                </a:moveTo>
                <a:arcTo wR="10530" hR="21600" stAng="10800000" swAng="5400000"/>
                <a:lnTo>
                  <a:pt x="10530" y="0"/>
                </a:lnTo>
                <a:arcTo wR="10530" hR="21600" stAng="-5400000" swAng="28651"/>
                <a:lnTo>
                  <a:pt x="10710" y="3"/>
                </a:lnTo>
                <a:arcTo wR="10530" hR="21600" stAng="-5428651" swAng="-537134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urved Down Arrow 9"/>
          <p:cNvSpPr/>
          <p:nvPr/>
        </p:nvSpPr>
        <p:spPr>
          <a:xfrm>
            <a:off x="826920" y="3284640"/>
            <a:ext cx="3240360" cy="215640"/>
          </a:xfrm>
          <a:custGeom>
            <a:avLst/>
            <a:gdLst>
              <a:gd name="textAreaLeft" fmla="*/ 789840 w 3240360"/>
              <a:gd name="textAreaRight" fmla="*/ 2423520 w 3240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30" hR="21600" stAng="10800000" swAng="5400000"/>
                <a:lnTo>
                  <a:pt x="10890" y="0"/>
                </a:lnTo>
                <a:arcTo wR="10530" hR="21600" stAng="-5400000" swAng="3725554"/>
                <a:lnTo>
                  <a:pt x="21266" y="16200"/>
                </a:lnTo>
                <a:lnTo>
                  <a:pt x="21240" y="21600"/>
                </a:lnTo>
                <a:lnTo>
                  <a:pt x="20546" y="16200"/>
                </a:lnTo>
                <a:lnTo>
                  <a:pt x="20726" y="16200"/>
                </a:lnTo>
                <a:arcTo wR="10530" hR="21600" stAng="-1674446" swAng="-3696903"/>
                <a:lnTo>
                  <a:pt x="10710" y="3"/>
                </a:lnTo>
                <a:arcTo wR="10530" hR="21600" stAng="-5428651" swAng="-5371349"/>
                <a:close/>
              </a:path>
              <a:path fill="darkenLess" w="21600" h="21600">
                <a:moveTo>
                  <a:pt x="0" y="21600"/>
                </a:moveTo>
                <a:arcTo wR="10530" hR="21600" stAng="10800000" swAng="5400000"/>
                <a:lnTo>
                  <a:pt x="10530" y="0"/>
                </a:lnTo>
                <a:arcTo wR="10530" hR="21600" stAng="-5400000" swAng="28651"/>
                <a:lnTo>
                  <a:pt x="10710" y="3"/>
                </a:lnTo>
                <a:arcTo wR="10530" hR="21600" stAng="-5428651" swAng="-537134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724280" y="609480"/>
            <a:ext cx="150336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1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3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2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3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3=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3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5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3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3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6=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3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7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3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8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3=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9=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10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3=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 times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3x anything means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ust skip in 3’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x2=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659640" y="620640"/>
            <a:ext cx="2016000" cy="558036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3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r add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360072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Curved Down Arrow 8"/>
          <p:cNvSpPr/>
          <p:nvPr/>
        </p:nvSpPr>
        <p:spPr>
          <a:xfrm>
            <a:off x="1042920" y="3284640"/>
            <a:ext cx="792360" cy="288720"/>
          </a:xfrm>
          <a:custGeom>
            <a:avLst/>
            <a:gdLst>
              <a:gd name="textAreaLeft" fmla="*/ 171000 w 792360"/>
              <a:gd name="textAreaRight" fmla="*/ 585360 w 79236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urved Down Arrow 9"/>
          <p:cNvSpPr/>
          <p:nvPr/>
        </p:nvSpPr>
        <p:spPr>
          <a:xfrm>
            <a:off x="1908000" y="3357720"/>
            <a:ext cx="792360" cy="287280"/>
          </a:xfrm>
          <a:custGeom>
            <a:avLst/>
            <a:gdLst>
              <a:gd name="textAreaLeft" fmla="*/ 171000 w 792360"/>
              <a:gd name="textAreaRight" fmla="*/ 5853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716360" y="549360"/>
            <a:ext cx="1503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ul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tter whi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ay it go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nswer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till the s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0=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1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x4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2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x4=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3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3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x4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4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5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x4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6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x4=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x4=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7=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x4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8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x4=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9=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10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x4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e are learning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 times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e are clever clo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we 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at 4x anything means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ust skip count  in 4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x2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kip count in 4’s two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,8 so 4x2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659640" y="620640"/>
            <a:ext cx="2016000" cy="5580360"/>
          </a:xfrm>
          <a:prstGeom prst="rect">
            <a:avLst/>
          </a:prstGeom>
          <a:solidFill>
            <a:srgbClr val="aa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e can skip count in 4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r add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978360" cy="2516040"/>
          </a:xfrm>
          <a:prstGeom prst="rect">
            <a:avLst/>
          </a:prstGeom>
          <a:ln w="0">
            <a:noFill/>
          </a:ln>
        </p:spPr>
      </p:pic>
      <p:sp>
        <p:nvSpPr>
          <p:cNvPr id="92" name="Curved Down Arrow 9"/>
          <p:cNvSpPr/>
          <p:nvPr/>
        </p:nvSpPr>
        <p:spPr>
          <a:xfrm>
            <a:off x="611280" y="2852640"/>
            <a:ext cx="1368360" cy="432000"/>
          </a:xfrm>
          <a:custGeom>
            <a:avLst/>
            <a:gdLst>
              <a:gd name="textAreaLeft" fmla="*/ 301320 w 1368360"/>
              <a:gd name="textAreaRight" fmla="*/ 1012680 w 13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urved Down Arrow 10"/>
          <p:cNvSpPr/>
          <p:nvPr/>
        </p:nvSpPr>
        <p:spPr>
          <a:xfrm>
            <a:off x="2050920" y="2852640"/>
            <a:ext cx="1368720" cy="432000"/>
          </a:xfrm>
          <a:custGeom>
            <a:avLst/>
            <a:gdLst>
              <a:gd name="textAreaLeft" fmla="*/ 301680 w 1368720"/>
              <a:gd name="textAreaRight" fmla="*/ 1013040 w 1368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6" name="Rectangle 4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 hope this helps.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 our 6-9 times table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re are some great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or practice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Youtube has some n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imes table videos if you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ing to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34120" y="609480"/>
            <a:ext cx="3504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C:\Users\Rosa\Pictures\IMG000031.jpg"/>
          <p:cNvPicPr/>
          <p:nvPr/>
        </p:nvPicPr>
        <p:blipFill>
          <a:blip r:embed="rId3"/>
          <a:stretch/>
        </p:blipFill>
        <p:spPr>
          <a:xfrm>
            <a:off x="6659640" y="3789360"/>
            <a:ext cx="11523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4 0.02197 C -0.2684 0.01133 -0.25434 0.0007 -0.24948 0.0007 C -0.2184 0.0007 -0.18646 0.16717 -0.18646 0.33364 C -0.18646 0.24971 -0.17049 0.16717 -0.15538 0.16717 C -0.13941 0.16717 -0.12431 0.2511 -0.12431 0.33364 C -0.12431 0.29226 -0.11632 0.24971 -0.10833 0.24971 C -0.10035 0.24971 -0.09236 0.2911 -0.09236 0.33364 C -0.09236 0.31237 -0.08837 0.29226 -0.08438 0.29226 C -0.08038 0.29226 -0.07639 0.31353 -0.07639 0.33364 C -0.07639 0.32301 -0.07431 0.31237 -0.0724 0.31237 C -0.07136 0.31237 -0.0684 0.32301 -0.0684 0.33364 C -0.0684 0.32833 -0.06736 0.32301 -0.06632 0.32301 C -0.06632 0.3244 -0.06424 0.32833 -0.06424 0.33364 C -0.06424 0.33087 -0.06424 0.32833 -0.0632 0.32833 C -0.0632 0.32971 -0.06215 0.3311 -0.06215 0.33364 C -0.06215 0.33226 -0.06215 0.33087 -0.06215 0.32971 C -0.06111 0.32971 -0.06111 0.3311 -0.06111 0.33249 C -0.06007 0.33249 -0.06007 0.3311 -0.06007 0.32971 C -0.05903 0.32971 -0.05903 0.3311 -0.05903 0.33249 E">
                                      <p:cBhvr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2T06:06:01Z</dcterms:modified>
  <cp:revision>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