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Musica%20Menu%20Popup.wav" ContentType="audio/x-wav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6160-21F8-4D09-AD5B-E003F8D4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F822-3D1F-419C-9750-5BA10433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7083-2C2B-47E7-81A2-E639F876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1B47-527A-4C09-90CC-D92E8AFC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023D-E2C9-4274-8461-79987920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2F74-F49D-45CE-BCB6-D145ECFC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89F5-F18D-4B03-A75E-227B0630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20A-518E-4782-BA8C-428FE4D1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8743-DF12-4377-8881-2C5CE5AC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8110-E7BF-489E-99CD-6319502D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DAD2-A248-459A-B577-0D1BFF6B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1D45-8C4C-45E6-89D1-0026AD41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0810-6E97-4B34-A1C0-B6EF62447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Utopia%20Restore%20Up.wav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Utopia%20Restore%20Up.wav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topia%20Restore%20Up.wav" TargetMode="External"/><Relationship Id="rId2" Type="http://schemas.openxmlformats.org/officeDocument/2006/relationships/hyperlink" Target="http://www.google.co.nz/url?sa=i&amp;rct=j&amp;q=&amp;esrc=s&amp;frm=1&amp;source=images&amp;cd=&amp;cad=rja&amp;docid=FZ82Ux4l2f_lFM&amp;tbnid=ntqdPtenqOd9pM:&amp;ved=0CAUQjRw&amp;url=http%3A%2F%2Fgarden.lovetoknow.com%2Fwiki%2FSlideshow%3AIdentifying_Garden_Pests&amp;ei=PWKSUbK7MceGkQWFwIDYAQ&amp;bvm=bv.46471029,d.aGc&amp;psig=AFQjCNHaxU8xHk4xJhzo3f49rPxYfZjAEQ&amp;ust=1368634247515962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google.co.nz/url?sa=i&amp;rct=j&amp;q=&amp;esrc=s&amp;frm=1&amp;source=images&amp;cd=&amp;cad=rja&amp;docid=kmi5xE6Wx9mj4M&amp;tbnid=iePrm6-aRtuKOM:&amp;ved=0CAUQjRw&amp;url=http%3A%2F%2Fprattpest.com%2Fblog%2F2013%2F03%2F08%2Fslugs-and-snails-oh-my%2F&amp;ei=c2KSUZ-uC8rekgX5_oGIBw&amp;bvm=bv.46471029,d.aGc&amp;psig=AFQjCNHaxU8xHk4xJhzo3f49rPxYfZjAEQ&amp;ust=1368634247515962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topia%20Restore%20Up.wav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topia%20Restore%20Up.wav" TargetMode="External"/><Relationship Id="rId2" Type="http://schemas.openxmlformats.org/officeDocument/2006/relationships/hyperlink" Target="http://whatsfordinnerma.files.wordpress.com/2012/01/escarg1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bestcoolfacts.com/wp-content/uploads/2013/04/sca.jpg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topia%20Restore%20Up.wav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google.co.nz/url?sa=i&amp;rct=j&amp;q=&amp;esrc=s&amp;frm=1&amp;source=images&amp;cd=&amp;cad=rja&amp;docid=lm1DoMme3A7BXM&amp;tbnid=vkLRi8aP3QJ1RM:&amp;ved=0CAUQjRw&amp;url=http%3A%2F%2Ftarynruuth.blogspot.com%2F2010_02_01_archive.html&amp;ei=jW2SUYj6BMmhkwWMj4C4DA&amp;psig=AFQjCNHVH1LGzdLZg9FpxCuy1izWMcjQOw&amp;ust=1368637121544615" TargetMode="External"/><Relationship Id="rId4" Type="http://schemas.openxmlformats.org/officeDocument/2006/relationships/image" Target="../media/image14.jpeg"/><Relationship Id="rId5" Type="http://schemas.openxmlformats.org/officeDocument/2006/relationships/audio" Target="../media/Musica%20Menu%20Popup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495680" y="609480"/>
            <a:ext cx="22860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My Documents\POwerpoint\Pams-book\Cover.jpg"/>
          <p:cNvPicPr/>
          <p:nvPr/>
        </p:nvPicPr>
        <p:blipFill>
          <a:blip r:embed="rId2"/>
          <a:stretch/>
        </p:blipFill>
        <p:spPr>
          <a:xfrm>
            <a:off x="4724280" y="609480"/>
            <a:ext cx="4073760" cy="5446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43" name="Rectangle 4"/>
          <p:cNvSpPr/>
          <p:nvPr/>
        </p:nvSpPr>
        <p:spPr>
          <a:xfrm>
            <a:off x="4724280" y="609480"/>
            <a:ext cx="403884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33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4930560" y="1295280"/>
            <a:ext cx="1960920" cy="82512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Comic Sans MS"/>
              </a:rPr>
              <a:t>Snai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003640" y="3860640"/>
            <a:ext cx="3407040" cy="137376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For Room 3 Minibeast fact find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" action="ppaction://hlinkshowjump?jump=nextslide"/>
            <a:hlinkClick r:id="rId3"/>
          </p:cNvPr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716360" y="692280"/>
            <a:ext cx="3807000" cy="526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57200" y="60948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2">
            <a:hlinkClick r:id="" action="ppaction://hlinkshowjump?jump=nextslide"/>
            <a:hlinkClick r:id="rId2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http://www.mypetsnail.com/pictures/anatomy2.jpg"/>
          <p:cNvPicPr/>
          <p:nvPr/>
        </p:nvPicPr>
        <p:blipFill>
          <a:blip r:embed="rId3"/>
          <a:stretch/>
        </p:blipFill>
        <p:spPr>
          <a:xfrm>
            <a:off x="755640" y="2133720"/>
            <a:ext cx="3456000" cy="3311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>
            <a:off x="826920" y="836640"/>
            <a:ext cx="20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Diagram of a sn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859280" y="1113120"/>
            <a:ext cx="34578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Sna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ow they brea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Calibri"/>
              </a:rPr>
              <a:t>Snails need air to breath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Calibri"/>
              </a:rPr>
              <a:t>They have lungs. If you want to look at them for a little while, put them into a pla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Calibri"/>
              </a:rPr>
              <a:t>container with a layer of damp dirt, some stones and dead leav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Calibri"/>
              </a:rPr>
              <a:t>Make sure your lids have holes in the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Calibri"/>
              </a:rPr>
              <a:t>so they can breathe. (Don’t forget to put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Calibri"/>
              </a:rPr>
              <a:t>snails back in the same place that you f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Calibri"/>
              </a:rPr>
              <a:t>them after you have finished studying them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Calibri"/>
              </a:rPr>
              <a:t>To look for its breathing hole, hold the snail upside  down and you will find it  near the mantle between the shell and its bod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4724280" y="609480"/>
            <a:ext cx="38800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 u="sng">
                <a:solidFill>
                  <a:srgbClr val="000000"/>
                </a:solidFill>
                <a:uFillTx/>
                <a:latin typeface="Times New Roman"/>
              </a:rPr>
              <a:t>Sna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 u="sng">
                <a:solidFill>
                  <a:srgbClr val="000000"/>
                </a:solidFill>
                <a:uFillTx/>
                <a:latin typeface="Times New Roman"/>
              </a:rPr>
              <a:t>What they e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Snails are plant eat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They eat fruit and vegetab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They eat rotten ones too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They will eat grains and seeds and even dirt if th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have to. They have a rough tongue that cuts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the foo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To make their shells hard, you can give th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white chalk to eat or wheat flour mixed with g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white bea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They don’t eat meat! Ever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They need water to drin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Put a damp paper towel or napkin into thei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container near their foo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Snails have a great sense of smel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that's how they find their food.  See if you c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make them smell the food to motivate th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during a rac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57200" y="60948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2">
            <a:hlinkClick r:id="" action="ppaction://hlinkshowjump?jump=nextslide"/>
            <a:hlinkClick r:id="rId1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2" descr="http://cf.ltkcdn.net/garden/images/slide/149776-600x399-Snail-eating-parsley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1484280"/>
            <a:ext cx="2305080" cy="1944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http://prattpest.com/wp-content/uploads/2013/03/iStock_000013144058Small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47640" y="3789360"/>
            <a:ext cx="1565280" cy="17938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859280" y="765000"/>
            <a:ext cx="3952800" cy="511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539640" y="836640"/>
            <a:ext cx="3826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Snail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Where do they liv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nails can be found all around the world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n New Zealand, we can find them in 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gardens because they like to eat the veget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growing the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y do not live in very hot or very cold and 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la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nails are nocturnal anima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66"/>
                </a:solidFill>
                <a:latin typeface="Verdana"/>
                <a:ea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means they move about mainly at n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but they can be found early in the morning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early in the evening to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y like damp, dark places and bright light mak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m hide in their shel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f you want to play with them just sprinkle the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with wa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at ought to "wake them up"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2">
            <a:hlinkClick r:id="" action="ppaction://hlinkshowjump?jump=nextslide"/>
            <a:hlinkClick r:id="rId1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0" y="7452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3" descr="http://www.mypetsnail.com/pictures/thumbnail.GIF"/>
          <p:cNvPicPr/>
          <p:nvPr/>
        </p:nvPicPr>
        <p:blipFill>
          <a:blip r:embed="rId2"/>
          <a:stretch/>
        </p:blipFill>
        <p:spPr>
          <a:xfrm>
            <a:off x="0" y="457200"/>
            <a:ext cx="419040" cy="361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3"/>
          <p:cNvSpPr/>
          <p:nvPr/>
        </p:nvSpPr>
        <p:spPr>
          <a:xfrm>
            <a:off x="5219640" y="3292560"/>
            <a:ext cx="3313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5003640" y="813600"/>
            <a:ext cx="36133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Snai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Do they have ey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y do have eyes at the end of their lo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entacles or feelers  but not on the bott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hort on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ir eyes are different to human e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because they use them to help figure out l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from dark and to feel around them to check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obstacles or things that get in their way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4" descr="ArtFavor snail 3 black white line art Scalable Vector Graphics SVG  SVG"/>
          <p:cNvPicPr/>
          <p:nvPr/>
        </p:nvPicPr>
        <p:blipFill>
          <a:blip r:embed="rId3"/>
          <a:stretch/>
        </p:blipFill>
        <p:spPr>
          <a:xfrm>
            <a:off x="6084720" y="3573360"/>
            <a:ext cx="1314720" cy="866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5"/>
          <p:cNvSpPr/>
          <p:nvPr/>
        </p:nvSpPr>
        <p:spPr>
          <a:xfrm>
            <a:off x="5158440" y="4411080"/>
            <a:ext cx="3487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Do snails have ear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No. They can’t hear you! Go ahead, shou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whisper, tell them all your secrets, they don'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have ear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4724280" y="609480"/>
            <a:ext cx="402444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57200" y="60948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2">
            <a:hlinkClick r:id="" action="ppaction://hlinkshowjump?jump=nextslide"/>
            <a:hlinkClick r:id="rId1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539640" y="354960"/>
            <a:ext cx="3765600" cy="57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How long can snails live fo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nails can live up to 5 years but some h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been found to live up to 25 year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at is a long time for a tiny creature</a:t>
            </a: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 u="sng">
                <a:solidFill>
                  <a:srgbClr val="000000"/>
                </a:solidFill>
                <a:uFillTx/>
                <a:latin typeface="Times New Roman"/>
              </a:rPr>
              <a:t>What animals eat snail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Snails are eaten by lots of creatur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Small creatures such as beetles, caterpillars and frogs eat them. Birds eat snails to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Ducks and geese love them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In other countries, toads and snakes will eat snails as wel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Humans eat snails als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In France, they grow snails and  farm th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for food to eat. They call them escargo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These snails are of a particular species and are fed a special diet that will make them taste n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to eat. They are not the same speci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that we find in New Zealand gardens</a:t>
            </a: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Did you know that there are 200,000 speci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of molluscs in the world including snails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3" descr="http://whatsfordinnerma.files.wordpress.com/2012/01/escarg1.jpg?w=600&amp;h=4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08720" y="836640"/>
            <a:ext cx="2519280" cy="1728720"/>
          </a:xfrm>
          <a:prstGeom prst="rect">
            <a:avLst/>
          </a:prstGeom>
          <a:ln w="0">
            <a:noFill/>
          </a:ln>
        </p:spPr>
      </p:pic>
      <p:sp>
        <p:nvSpPr>
          <p:cNvPr id="80" name="TextBox 13"/>
          <p:cNvSpPr/>
          <p:nvPr/>
        </p:nvSpPr>
        <p:spPr>
          <a:xfrm>
            <a:off x="5435640" y="2349360"/>
            <a:ext cx="28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nails (Escargot) on a pl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5003640" y="2796480"/>
            <a:ext cx="360216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ow do they move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nails are one of the slowes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moving creatures on earth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f1f1f"/>
              </a:buClr>
              <a:buFont typeface="Calibri"/>
              <a:buChar char="•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1f1f1f"/>
                </a:solidFill>
                <a:latin typeface="Calibri"/>
                <a:ea typeface="Calibri"/>
              </a:rPr>
              <a:t>Snails crawl around on their foot which produces slime. This slime is like a powerful form of suction for them. That is why they are able to move upside dow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slime also protects their soft body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getting cuts and bruises. A snail can even go over a razor blade without getting hu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nails move slowly but steadily. They don</a:t>
            </a:r>
            <a:r>
              <a:rPr b="0" lang="en-N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move in straight lines.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Sometimes they may turn around in complete circle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5" descr="snail can travel over a razor-blade without cutting itsel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08720" y="2852640"/>
            <a:ext cx="1076400" cy="7621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5219640" y="836640"/>
            <a:ext cx="324000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12">
            <a:hlinkClick r:id="" action="ppaction://hlinkshowjump?jump=nextslide"/>
            <a:hlinkClick r:id="rId1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468360" y="1635840"/>
            <a:ext cx="38876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ome more interesting information about snail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nails are hermaphr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means that they have  both male and female organs. So they are both girls and boys all in the one body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y still need to mate to have snail babies thoug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t takes about 3-4 weeks for snail eggs to hatch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happens in spring when the weather is war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These snails are mat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5580000" y="1125360"/>
            <a:ext cx="2600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  <a:ea typeface="Calibri"/>
              </a:rPr>
              <a:t>This snail is laying eg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2520" y="90360"/>
            <a:ext cx="225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" descr="Snails Mating"/>
          <p:cNvPicPr/>
          <p:nvPr/>
        </p:nvPicPr>
        <p:blipFill>
          <a:blip r:embed="rId2"/>
          <a:stretch/>
        </p:blipFill>
        <p:spPr>
          <a:xfrm>
            <a:off x="1042920" y="4292640"/>
            <a:ext cx="2276640" cy="13809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4"/>
          <p:cNvSpPr/>
          <p:nvPr/>
        </p:nvSpPr>
        <p:spPr>
          <a:xfrm>
            <a:off x="5580000" y="3429000"/>
            <a:ext cx="259236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alibri"/>
              </a:rPr>
              <a:t>Snails make hundreds of baby eggs!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5" descr="http://www.mypetsnail.com/pictures/eggs.jpg"/>
          <p:cNvPicPr/>
          <p:nvPr/>
        </p:nvPicPr>
        <p:blipFill>
          <a:blip r:embed="rId3"/>
          <a:stretch/>
        </p:blipFill>
        <p:spPr>
          <a:xfrm>
            <a:off x="5867280" y="4076640"/>
            <a:ext cx="2089440" cy="1170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http://www.mypetsnail.com/pictures/bebes.jpg"/>
          <p:cNvPicPr/>
          <p:nvPr/>
        </p:nvPicPr>
        <p:blipFill>
          <a:blip r:embed="rId4"/>
          <a:stretch/>
        </p:blipFill>
        <p:spPr>
          <a:xfrm>
            <a:off x="1908000" y="981000"/>
            <a:ext cx="828720" cy="447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7" descr="Snail laying eggs"/>
          <p:cNvPicPr/>
          <p:nvPr/>
        </p:nvPicPr>
        <p:blipFill>
          <a:blip r:embed="rId5"/>
          <a:stretch/>
        </p:blipFill>
        <p:spPr>
          <a:xfrm>
            <a:off x="6084720" y="1628640"/>
            <a:ext cx="156384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4495680" y="609480"/>
            <a:ext cx="22860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C:\My Documents\POwerpoint\Pams-book\Cover.jpg"/>
          <p:cNvPicPr/>
          <p:nvPr/>
        </p:nvPicPr>
        <p:blipFill>
          <a:blip r:embed="rId2"/>
          <a:stretch/>
        </p:blipFill>
        <p:spPr>
          <a:xfrm>
            <a:off x="533520" y="609480"/>
            <a:ext cx="4073400" cy="544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7" name="Rectangle 4"/>
          <p:cNvSpPr/>
          <p:nvPr/>
        </p:nvSpPr>
        <p:spPr>
          <a:xfrm>
            <a:off x="611280" y="620640"/>
            <a:ext cx="403848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33"/>
              </a:gs>
            </a:gsLst>
            <a:lin ang="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334120" y="609480"/>
            <a:ext cx="35049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ea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oom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a little help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d yes, I have eaten escarg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d did I like th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http://3.bp.blogspot.com/_9C6wfi5V2SY/S4RRy64RHUI/AAAAAAAAACk/cboMw6LuLPM/s320/a058-cartoon-snail-clip-ar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58920" y="2205000"/>
            <a:ext cx="2160720" cy="2444760"/>
          </a:xfrm>
          <a:prstGeom prst="rect">
            <a:avLst/>
          </a:prstGeom>
          <a:ln w="0">
            <a:noFill/>
          </a:ln>
        </p:spPr>
      </p:pic>
      <p:sp>
        <p:nvSpPr>
          <p:cNvPr id="100" name="Rounded Rectangular Callout 6"/>
          <p:cNvSpPr/>
          <p:nvPr/>
        </p:nvSpPr>
        <p:spPr>
          <a:xfrm>
            <a:off x="3419640" y="1557360"/>
            <a:ext cx="1081080" cy="1366920"/>
          </a:xfrm>
          <a:prstGeom prst="wedgeRoundRectCallout">
            <a:avLst>
              <a:gd name="adj1" fmla="val -84324"/>
              <a:gd name="adj2" fmla="val 7132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C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usica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12:13:16Z</dcterms:created>
  <dc:creator>Ian Bean</dc:creator>
  <dc:description/>
  <dc:language>en-US</dc:language>
  <cp:lastModifiedBy>Rosa</cp:lastModifiedBy>
  <dcterms:modified xsi:type="dcterms:W3CDTF">2013-05-14T17:24:05Z</dcterms:modified>
  <cp:revision>9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>http://freespeace.virginnet.co.uk/ian.priorywoods/index.html</vt:lpwstr>
  </property>
  <property fmtid="{D5CDD505-2E9C-101B-9397-08002B2CF9AE}" pid="9" name="LinkColor">
    <vt:r8>16711782</vt:r8>
  </property>
  <property fmtid="{D5CDD505-2E9C-101B-9397-08002B2CF9AE}" pid="10" name="MailAddress">
    <vt:lpwstr>ian.priorywoods@virginnet.co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emp\Powertest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