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Musica%20Menu%20Popup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C94-CBD7-42C0-9E81-503C91EE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386-ED44-4921-9817-39C57B16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EC1-10DB-4AE4-9607-A23CFB0D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BEB-B1C9-4D95-B4D9-B3AD5C6A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57B-A679-4874-B062-A4D0A1E3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828-5887-4519-9138-083D907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B4C-C275-41DD-B837-46AED7A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EE4-A0FE-4031-99F8-BC1D5808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0FA-3C1B-491C-B92C-AC980B0B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EE2-5B76-48A6-95DA-1012554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390-4350-4B34-81F4-88AB4BB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ABD-F9FD-4677-9B92-29EF625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C1E-6581-4927-B072-1F2527A80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hyperlink" Target="http://www.google.co.nz/url?sa=i&amp;rct=j&amp;q=&amp;esrc=s&amp;frm=1&amp;source=images&amp;cd=&amp;cad=rja&amp;docid=FZ82Ux4l2f_lFM&amp;tbnid=ntqdPtenqOd9pM:&amp;ved=0CAUQjRw&amp;url=http%3A%2F%2Fgarden.lovetoknow.com%2Fwiki%2FSlideshow%3AIdentifying_Garden_Pests&amp;ei=PWKSUbK7MceGkQWFwIDYAQ&amp;bvm=bv.46471029,d.aGc&amp;psig=AFQjCNHaxU8xHk4xJhzo3f49rPxYfZjAEQ&amp;ust=1368634247515962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ogle.co.nz/url?sa=i&amp;rct=j&amp;q=&amp;esrc=s&amp;frm=1&amp;source=images&amp;cd=&amp;cad=rja&amp;docid=kmi5xE6Wx9mj4M&amp;tbnid=iePrm6-aRtuKOM:&amp;ved=0CAUQjRw&amp;url=http%3A%2F%2Fprattpest.com%2Fblog%2F2013%2F03%2F08%2Fslugs-and-snails-oh-my%2F&amp;ei=c2KSUZ-uC8rekgX5_oGIBw&amp;bvm=bv.46471029,d.aGc&amp;psig=AFQjCNHaxU8xHk4xJhzo3f49rPxYfZjAEQ&amp;ust=1368634247515962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hyperlink" Target="http://whatsfordinnerma.files.wordpress.com/2012/01/escarg1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bestcoolfacts.com/wp-content/uploads/2013/04/sca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Restore%20Up.wav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google.co.nz/url?sa=i&amp;rct=j&amp;q=&amp;esrc=s&amp;frm=1&amp;source=images&amp;cd=&amp;cad=rja&amp;docid=lm1DoMme3A7BXM&amp;tbnid=vkLRi8aP3QJ1RM:&amp;ved=0CAUQjRw&amp;url=http%3A%2F%2Ftarynruuth.blogspot.com%2F2010_02_01_archive.html&amp;ei=jW2SUYj6BMmhkwWMj4C4DA&amp;psig=AFQjCNHVH1LGzdLZg9FpxCuy1izWMcjQOw&amp;ust=1368637121544615" TargetMode="External"/><Relationship Id="rId4" Type="http://schemas.openxmlformats.org/officeDocument/2006/relationships/image" Target="../media/image14.jpeg"/><Relationship Id="rId5" Type="http://schemas.openxmlformats.org/officeDocument/2006/relationships/audio" Target="../media/Musica%20Menu%20Popu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930560" y="1295280"/>
            <a:ext cx="1960920" cy="82512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Snai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003640" y="3860640"/>
            <a:ext cx="3407040" cy="13737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For Room 3 Minibeast fact fin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716360" y="692280"/>
            <a:ext cx="3807000" cy="52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http://www.mypetsnail.com/pictures/anatomy2.jpg"/>
          <p:cNvPicPr/>
          <p:nvPr/>
        </p:nvPicPr>
        <p:blipFill>
          <a:blip r:embed="rId3"/>
          <a:stretch/>
        </p:blipFill>
        <p:spPr>
          <a:xfrm>
            <a:off x="755640" y="2133720"/>
            <a:ext cx="3456000" cy="3311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826920" y="83664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Diagram of a sn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859280" y="1113120"/>
            <a:ext cx="3457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n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 they brea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Snails need air to breat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They have lungs. If you want to look at them for a little while, put them into a pla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container with a layer of damp dirt, some stones and dead leav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Make sure your lids have holes in th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so they can breathe. (Don’t forget to pu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snails back in the same place that you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them after you have finished studying the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Calibri"/>
              </a:rPr>
              <a:t>To look for its breathing hole, hold the snail upside  down and you will find it  near the mantle between the shell and its bod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724280" y="609480"/>
            <a:ext cx="38800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Times New Roman"/>
              </a:rPr>
              <a:t>Sn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Times New Roman"/>
              </a:rPr>
              <a:t>What they 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Snails are plant ea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eat fruit and vegetab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eat rotten ones to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will eat grains and seeds and even dirt if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have to. They have a rough tongue that cuts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 fo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o make their shells hard, you can give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white chalk to eat or wheat flour mixed with 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white b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don’t eat meat! Ev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y need water to drin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Put a damp paper towel or napkin into the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ntainer near their fo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Snails have a great sense of smel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at's how they find their food.  See if you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make them smell the food to motivate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during a rac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2" descr="http://cf.ltkcdn.net/garden/images/slide/149776-600x399-Snail-eating-parsle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48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prattpest.com/wp-content/uploads/2013/03/iStock_000013144058Sm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3789360"/>
            <a:ext cx="156528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859280" y="765000"/>
            <a:ext cx="395280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9640" y="836640"/>
            <a:ext cx="3826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nail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ere do they liv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can be found all around the world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New Zealand, we can find them in 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ardens because they like to eat the vege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ing t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do not live in very hot or very cold and 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la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are nocturnal anim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means they move about mainly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ut they can be found early in the morn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rly in the evening to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like damp, dark places and bright light m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m hide in their sh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f you want to play with them just sprinkle th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wa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at ought to "wake them up"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7452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3" descr="http://www.mypetsnail.com/pictures/thumbnail.GIF"/>
          <p:cNvPicPr/>
          <p:nvPr/>
        </p:nvPicPr>
        <p:blipFill>
          <a:blip r:embed="rId2"/>
          <a:stretch/>
        </p:blipFill>
        <p:spPr>
          <a:xfrm>
            <a:off x="0" y="457200"/>
            <a:ext cx="419040" cy="361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5219640" y="3292560"/>
            <a:ext cx="3313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5003640" y="813600"/>
            <a:ext cx="3613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nai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 they have ey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do have eyes at the end of their lo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ntacles or feelers  but not on the bott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hort o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eyes are different to human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ecause they use them to help figure out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rom dark and to feel around them to check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bstacles or things that get in their w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ArtFavor snail 3 black white line art Scalable Vector Graphics SVG  SVG"/>
          <p:cNvPicPr/>
          <p:nvPr/>
        </p:nvPicPr>
        <p:blipFill>
          <a:blip r:embed="rId3"/>
          <a:stretch/>
        </p:blipFill>
        <p:spPr>
          <a:xfrm>
            <a:off x="6084720" y="3573360"/>
            <a:ext cx="1314720" cy="866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5"/>
          <p:cNvSpPr/>
          <p:nvPr/>
        </p:nvSpPr>
        <p:spPr>
          <a:xfrm>
            <a:off x="5158440" y="4411080"/>
            <a:ext cx="3487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 snails have ea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No. They can’t hear you! Go ahead, shou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hisper, tell them all your secrets, they don'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have ear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724280" y="609480"/>
            <a:ext cx="40244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39640" y="354960"/>
            <a:ext cx="376560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How long can snails live f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can live up to 5 years but some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een found to live up to 25 year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at is a long time for a tiny creature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Times New Roman"/>
              </a:rPr>
              <a:t>What animals eat snail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nails are eaten by lots of creatu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mall creatures such as beetles, caterpillars and frogs eat them. Birds eat snails to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ucks and geese love them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n other countries, toads and snakes will eat snails as we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Humans eat snails al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n France, they grow snails and  farm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for food to eat. They call them escarg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se snails are of a particular species and are fed a special diet that will make them taste n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o eat. They are not the same spec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at we find in New Zealand gardens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d you know that there are 200,000 spec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of molluscs in the world including snail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3" descr="http://whatsfordinnerma.files.wordpress.com/2012/01/escarg1.jpg?w=600&amp;h=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836640"/>
            <a:ext cx="2519280" cy="1728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3"/>
          <p:cNvSpPr/>
          <p:nvPr/>
        </p:nvSpPr>
        <p:spPr>
          <a:xfrm>
            <a:off x="5435640" y="234936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nails (Escargot) on a pl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5003640" y="2796480"/>
            <a:ext cx="36021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ow do they move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are one of the slowe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oving creatures on eart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f1f1f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f1f1f"/>
                </a:solidFill>
                <a:latin typeface="Calibri"/>
                <a:ea typeface="Calibri"/>
              </a:rPr>
              <a:t>Snails crawl around on their foot which produces slime. This slime is like a powerful form of suction for them. That is why they are able to move upside d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slime also protects their soft body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etting cuts and bruises. A snail can even go over a razor blade without getting hu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move slowly but steadily. They don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ove in straight lines.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ometimes they may turn around in complete circl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5" descr="snail can travel over a razor-blade without cutting itsel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08720" y="2852640"/>
            <a:ext cx="10764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19640" y="836640"/>
            <a:ext cx="324000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2">
            <a:hlinkClick r:id="" action="ppaction://hlinkshowjump?jump=nextslide"/>
            <a:hlinkClick r:id="rId1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68360" y="1635840"/>
            <a:ext cx="3887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ome more interesting information about snai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nails are hermaphr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means that they have  both male and female organs. So they are both girls and boys all in the one bod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still need to mate to have snail babies thou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t takes about 3-4 weeks for snail eggs to hatch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happens in spring when the weather is war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These snails are ma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80000" y="1125360"/>
            <a:ext cx="2600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snail is laying eg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520" y="90360"/>
            <a:ext cx="22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" descr="Snails Mating"/>
          <p:cNvPicPr/>
          <p:nvPr/>
        </p:nvPicPr>
        <p:blipFill>
          <a:blip r:embed="rId2"/>
          <a:stretch/>
        </p:blipFill>
        <p:spPr>
          <a:xfrm>
            <a:off x="1042920" y="4292640"/>
            <a:ext cx="2276640" cy="1380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5580000" y="3429000"/>
            <a:ext cx="259236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alibri"/>
              </a:rPr>
              <a:t>Snails make hundreds of baby eggs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5" descr="http://www.mypetsnail.com/pictures/eggs.jpg"/>
          <p:cNvPicPr/>
          <p:nvPr/>
        </p:nvPicPr>
        <p:blipFill>
          <a:blip r:embed="rId3"/>
          <a:stretch/>
        </p:blipFill>
        <p:spPr>
          <a:xfrm>
            <a:off x="5867280" y="4076640"/>
            <a:ext cx="2089440" cy="117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http://www.mypetsnail.com/pictures/bebes.jpg"/>
          <p:cNvPicPr/>
          <p:nvPr/>
        </p:nvPicPr>
        <p:blipFill>
          <a:blip r:embed="rId4"/>
          <a:stretch/>
        </p:blipFill>
        <p:spPr>
          <a:xfrm>
            <a:off x="1908000" y="981000"/>
            <a:ext cx="828720" cy="4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Snail laying eggs"/>
          <p:cNvPicPr/>
          <p:nvPr/>
        </p:nvPicPr>
        <p:blipFill>
          <a:blip r:embed="rId5"/>
          <a:stretch/>
        </p:blipFill>
        <p:spPr>
          <a:xfrm>
            <a:off x="6084720" y="1628640"/>
            <a:ext cx="15638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C:\My Documents\POwerpoint\Pams-book\Cover.jpg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7" name="Rectangle 4"/>
          <p:cNvSpPr/>
          <p:nvPr/>
        </p:nvSpPr>
        <p:spPr>
          <a:xfrm>
            <a:off x="611280" y="620640"/>
            <a:ext cx="403848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33"/>
              </a:gs>
            </a:gsLst>
            <a:lin ang="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334120" y="609480"/>
            <a:ext cx="35049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oom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yes, I have eaten escarg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did I like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http://3.bp.blogspot.com/_9C6wfi5V2SY/S4RRy64RHUI/AAAAAAAAACk/cboMw6LuLPM/s320/a058-cartoon-snail-clip-ar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2205000"/>
            <a:ext cx="2160720" cy="244476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ular Callout 6"/>
          <p:cNvSpPr/>
          <p:nvPr/>
        </p:nvSpPr>
        <p:spPr>
          <a:xfrm>
            <a:off x="3419640" y="1557360"/>
            <a:ext cx="1081080" cy="1366920"/>
          </a:xfrm>
          <a:prstGeom prst="wedgeRoundRectCallout">
            <a:avLst>
              <a:gd name="adj1" fmla="val -84324"/>
              <a:gd name="adj2" fmla="val 7132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Rosa</cp:lastModifiedBy>
  <dcterms:modified xsi:type="dcterms:W3CDTF">2013-05-14T17:24:05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