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132-CD51-4E77-A036-801713B2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031-A645-460A-8B37-27D92BB0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2E7-28FA-4DBE-977E-08A4E2B8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9D5-920E-49E3-A238-CD3407F8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60E-9B23-4093-B81D-694CB6E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C8C-6091-4A6C-AE1A-D993523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B58-B41C-4516-9DFB-A355B7A0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FBF-BA9F-4570-A6C2-50427A2D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607-7F04-482C-8DBF-3C85E9C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AD3-3E0A-49C9-8D7E-443C063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3B6-DB0F-45EF-9EF7-5D750C5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CBC-133B-4486-A1AA-03C6B52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4A3-E458-4506-A67A-11FBDBDA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ww.google.co.nz/url?sa=i&amp;rct=j&amp;q=prepositions&amp;source=images&amp;cd=&amp;cad=rja&amp;docid=VjJ9x_DDxAceMM&amp;tbnid=EJUfAnl73oOpbM:&amp;ved=0CAUQjRw&amp;url=http://articulation360.wordpress.com/tag/kids/&amp;ei=ZL2PUfa7IoaVkQXD6YHoDw&amp;bvm=bv.46340616,d.aGc&amp;psig=AFQjCNFBlR4dCWTD3g6Mse0BDNMTo-S83A&amp;ust=1368460636977639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buzzle.com/articles/examples-of-prepositions.html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ww.google.co.nz/imgres?q=compass+signs&amp;start=148&amp;sa=X&amp;hl=en&amp;rlz=1G1ACAW_EN-GBNZ531&amp;biw=914&amp;bih=442&amp;tbm=isch&amp;tbnid=WbKsPs0hKzwSkM:&amp;imgrefurl=http://rfclipart.com/compass-rose-1424-vector-clipart.html&amp;docid=fd90VGuqR7IkkM&amp;imgurl=http://img.rfclipart.com/image/big/18-6a-e4/compass-rose-Download-Royalty-free-Vector-File-EPS-2720.jpg?v3&amp;w=1200&amp;h=1200&amp;ei=UQBzUdSIMO2iiAfd14DQBw&amp;zoom=1&amp;ved=1t:3588,r:49,s:100,i:151&amp;iact=rc&amp;dur=1457&amp;page=12&amp;tbnh=176&amp;tbnw=193&amp;ndsp=13&amp;tx=93.28573608398437&amp;ty=64.4285888671875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audio" Target="../media/Musica%20Menu%20Popup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822560" y="1295280"/>
            <a:ext cx="3974040" cy="22874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Position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dir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Ma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03640" y="3860640"/>
            <a:ext cx="3407040" cy="9471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or Room 3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c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24280" y="609480"/>
            <a:ext cx="3951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are learn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y, read and act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ition wor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are “clever clog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n w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Understand and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u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well we k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       Help other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derstand what th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ds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http://1.bp.blogspot.com/-77ha_bttPNI/Ts83lxZc5zI/AAAAAAAAADs/ERYxyv5yclk/s640/Picture1.jpg"/>
          <p:cNvPicPr/>
          <p:nvPr/>
        </p:nvPicPr>
        <p:blipFill>
          <a:blip r:embed="rId3"/>
          <a:stretch/>
        </p:blipFill>
        <p:spPr>
          <a:xfrm>
            <a:off x="5003640" y="83664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932360" y="765000"/>
            <a:ext cx="3600360" cy="496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ppening using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, over and u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rc_mi" descr="http://articulation360.files.wordpress.com/2012/04/flip-flop-prepositions-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907920"/>
            <a:ext cx="36734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buzzle.com/images/diagrams/place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836640"/>
            <a:ext cx="33814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5219640" y="4724280"/>
            <a:ext cx="28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Say the words, spell the words, act ou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words using any object  close 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24280" y="609480"/>
            <a:ext cx="3735360" cy="51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udy the picture on the 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d answer these true or false ques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(Note: The outdoor area is at the 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f the cl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library corner is at the back le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hand corner of the class. True/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2. The table toys is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mic Sans MS"/>
              </a:rPr>
              <a:t> no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-betwee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ibrary corner and the house cor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rue/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3. The block corner is at the fron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class on the left hand side. True/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4. The sand and water area is in-betw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rt and block corner. True/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5. The table toys area has a door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pens up to the outside. True/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raw a plan of our classro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Example: Preschool Room Layout"/>
          <p:cNvPicPr/>
          <p:nvPr/>
        </p:nvPicPr>
        <p:blipFill>
          <a:blip r:embed="rId2"/>
          <a:stretch/>
        </p:blipFill>
        <p:spPr>
          <a:xfrm>
            <a:off x="539640" y="765000"/>
            <a:ext cx="3672000" cy="505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ome people learn best throu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music and move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Learn your left, right and around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y singing and acting out this so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imes New Roman"/>
              </a:rPr>
              <a:t>The Hokey Po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You put your right hand in,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You put your right hand out,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You put your right hand in,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nd you shake it all abo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You do the hokey pokey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nd you turn yourself aroun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hat what it's all ab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) left hand 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3) right foot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4) left foot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5) hea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6) bottom 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7) whole 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43280" y="620640"/>
            <a:ext cx="36640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ori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 ringa ki ro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 ringa ki wa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 ringa ki r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a ruirurih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i te hoe hope 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i te huri huri 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i te paki paki a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glish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nd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nd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nd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ake it all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wing 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urn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lap h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716360" y="692280"/>
            <a:ext cx="40244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836640"/>
            <a:ext cx="4248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684360" y="907920"/>
            <a:ext cx="79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Senior play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8"/>
          <p:cNvSpPr/>
          <p:nvPr/>
        </p:nvSpPr>
        <p:spPr>
          <a:xfrm>
            <a:off x="1547640" y="692280"/>
            <a:ext cx="17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Fi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9"/>
          <p:cNvSpPr/>
          <p:nvPr/>
        </p:nvSpPr>
        <p:spPr>
          <a:xfrm>
            <a:off x="3132000" y="69228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Tennis/basketball cou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684360" y="1341360"/>
            <a:ext cx="574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Caretakr</a:t>
            </a: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sh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1"/>
          <p:cNvSpPr/>
          <p:nvPr/>
        </p:nvSpPr>
        <p:spPr>
          <a:xfrm>
            <a:off x="1258920" y="1341360"/>
            <a:ext cx="50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B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63640" y="1052640"/>
          <a:ext cx="2808360" cy="647640"/>
        </p:xfrm>
        <a:graphic>
          <a:graphicData uri="http://schemas.openxmlformats.org/drawingml/2006/table">
            <a:tbl>
              <a:tblPr/>
              <a:tblGrid>
                <a:gridCol w="682560"/>
                <a:gridCol w="736560"/>
                <a:gridCol w="532080"/>
                <a:gridCol w="85716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om 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om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 resource 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9640" y="2565360"/>
          <a:ext cx="1224000" cy="117792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 S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acher Resource 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rar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om 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Oval 63"/>
          <p:cNvSpPr/>
          <p:nvPr/>
        </p:nvSpPr>
        <p:spPr>
          <a:xfrm>
            <a:off x="2050920" y="2637000"/>
            <a:ext cx="6987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4"/>
          <p:cNvSpPr/>
          <p:nvPr/>
        </p:nvSpPr>
        <p:spPr>
          <a:xfrm>
            <a:off x="3780000" y="2205000"/>
            <a:ext cx="6634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Room 8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3780000" y="2852640"/>
            <a:ext cx="6634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resour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5"/>
          <p:cNvSpPr/>
          <p:nvPr/>
        </p:nvSpPr>
        <p:spPr>
          <a:xfrm>
            <a:off x="4067280" y="3645000"/>
            <a:ext cx="50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po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6"/>
          <p:cNvSpPr/>
          <p:nvPr/>
        </p:nvSpPr>
        <p:spPr>
          <a:xfrm>
            <a:off x="2627280" y="3716280"/>
            <a:ext cx="57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Room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6"/>
          <p:cNvSpPr/>
          <p:nvPr/>
        </p:nvSpPr>
        <p:spPr>
          <a:xfrm>
            <a:off x="3203640" y="3716280"/>
            <a:ext cx="57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Roo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7"/>
          <p:cNvSpPr/>
          <p:nvPr/>
        </p:nvSpPr>
        <p:spPr>
          <a:xfrm>
            <a:off x="539640" y="4005360"/>
            <a:ext cx="8953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Staff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Mrs Martin D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 u="sng">
                <a:solidFill>
                  <a:srgbClr val="000000"/>
                </a:solidFill>
                <a:uFillTx/>
                <a:latin typeface="Calibri"/>
              </a:rPr>
              <a:t>ENT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Tony’s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Mrs Kings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8"/>
          <p:cNvSpPr/>
          <p:nvPr/>
        </p:nvSpPr>
        <p:spPr>
          <a:xfrm>
            <a:off x="4067280" y="4437000"/>
            <a:ext cx="50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Jun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Play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9"/>
          <p:cNvSpPr/>
          <p:nvPr/>
        </p:nvSpPr>
        <p:spPr>
          <a:xfrm>
            <a:off x="3132000" y="4508640"/>
            <a:ext cx="9334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alibri"/>
              </a:rPr>
              <a:t>Reading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0"/>
          <p:cNvSpPr/>
          <p:nvPr/>
        </p:nvSpPr>
        <p:spPr>
          <a:xfrm>
            <a:off x="3132000" y="4869000"/>
            <a:ext cx="935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Room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3132000" y="5300640"/>
            <a:ext cx="935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Room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1"/>
          <p:cNvSpPr/>
          <p:nvPr/>
        </p:nvSpPr>
        <p:spPr>
          <a:xfrm>
            <a:off x="539640" y="5229360"/>
            <a:ext cx="503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Car Park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2"/>
          <p:cNvSpPr/>
          <p:nvPr/>
        </p:nvSpPr>
        <p:spPr>
          <a:xfrm>
            <a:off x="1042920" y="5445000"/>
            <a:ext cx="6001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Sand p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3"/>
          <p:cNvSpPr/>
          <p:nvPr/>
        </p:nvSpPr>
        <p:spPr>
          <a:xfrm>
            <a:off x="1763640" y="5805360"/>
            <a:ext cx="2314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NZ" sz="1400" spc="-1" strike="noStrike">
                <a:solidFill>
                  <a:srgbClr val="000000"/>
                </a:solidFill>
                <a:latin typeface="Calibri"/>
              </a:rPr>
              <a:t>TAITOKO SCHOOL 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7" descr="http://t0.gstatic.com/images?q=tbn:ANd9GcQ4NH-L7EiJBJkXw3C1h64Lg4mXdDNjegyzO_4R3-dq2LWNr88Z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197000"/>
            <a:ext cx="812520" cy="812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5"/>
          <p:cNvSpPr/>
          <p:nvPr/>
        </p:nvSpPr>
        <p:spPr>
          <a:xfrm>
            <a:off x="6372360" y="907920"/>
            <a:ext cx="6681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6"/>
          <p:cNvSpPr/>
          <p:nvPr/>
        </p:nvSpPr>
        <p:spPr>
          <a:xfrm>
            <a:off x="6516720" y="1844640"/>
            <a:ext cx="6681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7"/>
          <p:cNvSpPr/>
          <p:nvPr/>
        </p:nvSpPr>
        <p:spPr>
          <a:xfrm>
            <a:off x="7164360" y="1413000"/>
            <a:ext cx="66852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E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8"/>
          <p:cNvSpPr/>
          <p:nvPr/>
        </p:nvSpPr>
        <p:spPr>
          <a:xfrm>
            <a:off x="5796000" y="1484280"/>
            <a:ext cx="6681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W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73"/>
          <p:cNvSpPr/>
          <p:nvPr/>
        </p:nvSpPr>
        <p:spPr>
          <a:xfrm>
            <a:off x="5076720" y="2179800"/>
            <a:ext cx="33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Times New Roman"/>
              </a:rPr>
              <a:t>Here is a plan of our scho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Use carefully chosen</a:t>
            </a:r>
            <a:r>
              <a:rPr b="1" lang="en-NZ" sz="1400" spc="-1" strike="noStrike">
                <a:solidFill>
                  <a:srgbClr val="000000"/>
                </a:solidFill>
                <a:latin typeface="Times New Roman"/>
              </a:rPr>
              <a:t> position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words to help visitors locate  classrooms and places around the scho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I am at the entrance. I am looking for Room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I am at the entrance. I want to go to the ha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I am at the entrance. I want to see the caretak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 emergency bell has rung. I am in room 3. What do I do and where do I g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I am on the field. I need to go back to Room 3. I can go two ways. Tell me one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6.     You make up some questions for others to answ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4" name="Rectangle 4"/>
          <p:cNvSpPr/>
          <p:nvPr/>
        </p:nvSpPr>
        <p:spPr>
          <a:xfrm>
            <a:off x="539640" y="692280"/>
            <a:ext cx="4038840" cy="54100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 what positions am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have you lear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34120" y="609480"/>
            <a:ext cx="3504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C:\Users\Rosa\Pictures\IMG000031.jpg"/>
          <p:cNvPicPr/>
          <p:nvPr/>
        </p:nvPicPr>
        <p:blipFill>
          <a:blip r:embed="rId3"/>
          <a:stretch/>
        </p:blipFill>
        <p:spPr>
          <a:xfrm>
            <a:off x="7093080" y="4149720"/>
            <a:ext cx="92556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C:\Users\Rosa\Pictures\IMG000031.jpg"/>
          <p:cNvPicPr/>
          <p:nvPr/>
        </p:nvPicPr>
        <p:blipFill>
          <a:blip r:embed="rId4"/>
          <a:stretch/>
        </p:blipFill>
        <p:spPr>
          <a:xfrm>
            <a:off x="6588000" y="5157720"/>
            <a:ext cx="86364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Users\Rosa\Pictures\IMG000031.jpg"/>
          <p:cNvPicPr/>
          <p:nvPr/>
        </p:nvPicPr>
        <p:blipFill>
          <a:blip r:embed="rId5"/>
          <a:stretch/>
        </p:blipFill>
        <p:spPr>
          <a:xfrm>
            <a:off x="5651640" y="4221000"/>
            <a:ext cx="92700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Rosa\Pictures\IMG000031.jpg"/>
          <p:cNvPicPr/>
          <p:nvPr/>
        </p:nvPicPr>
        <p:blipFill>
          <a:blip r:embed="rId6"/>
          <a:stretch/>
        </p:blipFill>
        <p:spPr>
          <a:xfrm>
            <a:off x="6475320" y="3036960"/>
            <a:ext cx="863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Right Arrow 10"/>
          <p:cNvSpPr/>
          <p:nvPr/>
        </p:nvSpPr>
        <p:spPr>
          <a:xfrm>
            <a:off x="1908000" y="32130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17:54:56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