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Musica%20Menu%20Popup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B8A-003E-4D41-9C21-FBC74EEB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B61-384D-4578-9457-AA5D4AF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36C-2E26-415C-9ED9-CCEB098E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98B-A744-4C52-A608-B658129A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221-74EA-4219-83E2-AE076D67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667-EF85-46EA-A5BF-C99264E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081-DBE3-4BEF-B09C-5BB1C8B1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562-AD7F-4E64-94C3-E58498B7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C46-8343-429B-B0E8-94DEF2D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BA9-A0AB-447F-908F-85A0290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C9B-0B48-43C7-92EE-AAB9E15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C53-5524-4223-AC11-CA8838B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4A18-4063-4659-BA29-8DDC14CF7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Musica%20Menu%20Popu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952880" y="1295280"/>
            <a:ext cx="3291120" cy="22874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x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Less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290560" y="5334120"/>
            <a:ext cx="28141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Room 3 Ter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C:\Users\rcasanelia\Desktop\boxing\P1000395.JPG"/>
          <p:cNvPicPr/>
          <p:nvPr/>
        </p:nvPicPr>
        <p:blipFill>
          <a:blip r:embed="rId4"/>
          <a:stretch/>
        </p:blipFill>
        <p:spPr>
          <a:xfrm>
            <a:off x="5508720" y="2924280"/>
            <a:ext cx="2376360" cy="1873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7093080" y="4508640"/>
            <a:ext cx="9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lli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rcasanelia\Desktop\boxing\P1000394.JPG"/>
          <p:cNvPicPr/>
          <p:nvPr/>
        </p:nvPicPr>
        <p:blipFill>
          <a:blip r:embed="rId3"/>
          <a:stretch/>
        </p:blipFill>
        <p:spPr>
          <a:xfrm>
            <a:off x="900000" y="1125360"/>
            <a:ext cx="2828880" cy="2016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042920" y="3284640"/>
            <a:ext cx="25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oxing keeps us fit and helps us to have good eye and hand co-ord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than has the right at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rcasanelia\Desktop\boxing\P1000391.JPG"/>
          <p:cNvPicPr/>
          <p:nvPr/>
        </p:nvPicPr>
        <p:blipFill>
          <a:blip r:embed="rId4"/>
          <a:stretch/>
        </p:blipFill>
        <p:spPr>
          <a:xfrm>
            <a:off x="7236000" y="1700280"/>
            <a:ext cx="1439640" cy="1512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5003640" y="335772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hloe and Pearl are learning to complete a sequence of boxing moves. Left, right, left, right, left, right, left, right, and then du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f you don’t duck...what might happ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C:\Users\rcasanelia\Desktop\boxing\P1000401.JPG"/>
          <p:cNvPicPr/>
          <p:nvPr/>
        </p:nvPicPr>
        <p:blipFill>
          <a:blip r:embed="rId5"/>
          <a:stretch/>
        </p:blipFill>
        <p:spPr>
          <a:xfrm>
            <a:off x="5003640" y="907920"/>
            <a:ext cx="216072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25892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219640" y="3213000"/>
            <a:ext cx="273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etia, Deijahna, Julyan and Lavinia are passing the medicine balls to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hese balls are very, very heavy so don’t drop them on your fe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C:\Users\rcasanelia\Desktop\boxing\P1000392.JPG"/>
          <p:cNvPicPr/>
          <p:nvPr/>
        </p:nvPicPr>
        <p:blipFill>
          <a:blip r:embed="rId2"/>
          <a:stretch/>
        </p:blipFill>
        <p:spPr>
          <a:xfrm>
            <a:off x="971640" y="90792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rcasanelia\Desktop\boxing\P1000414.JPG"/>
          <p:cNvPicPr/>
          <p:nvPr/>
        </p:nvPicPr>
        <p:blipFill>
          <a:blip r:embed="rId3"/>
          <a:stretch/>
        </p:blipFill>
        <p:spPr>
          <a:xfrm>
            <a:off x="1187280" y="4221000"/>
            <a:ext cx="2232360" cy="1368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611280" y="292428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kipping is important for fitness. It helps to tone our leg muscles. Leomay (above) and Lavinia (below) are fantastic skippers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3" descr="C:\Users\rcasanelia\Desktop\boxing\P1000400.JPG"/>
          <p:cNvPicPr/>
          <p:nvPr/>
        </p:nvPicPr>
        <p:blipFill>
          <a:blip r:embed="rId4"/>
          <a:stretch/>
        </p:blipFill>
        <p:spPr>
          <a:xfrm>
            <a:off x="5219640" y="907920"/>
            <a:ext cx="26766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716360" y="692280"/>
            <a:ext cx="40388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62064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9640" y="3213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oman is serious about his training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076720" y="27813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evita and Cyrus are ready to start their routines. Gloves up boy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C:\Users\rcasanelia\Desktop\boxing\P1000413.JPG"/>
          <p:cNvPicPr/>
          <p:nvPr/>
        </p:nvPicPr>
        <p:blipFill>
          <a:blip r:embed="rId2"/>
          <a:stretch/>
        </p:blipFill>
        <p:spPr>
          <a:xfrm>
            <a:off x="826920" y="90792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C:\Users\rcasanelia\Desktop\boxing\P1000396.JPG"/>
          <p:cNvPicPr/>
          <p:nvPr/>
        </p:nvPicPr>
        <p:blipFill>
          <a:blip r:embed="rId3"/>
          <a:stretch/>
        </p:blipFill>
        <p:spPr>
          <a:xfrm>
            <a:off x="2050920" y="3645000"/>
            <a:ext cx="22068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611280" y="4149720"/>
            <a:ext cx="122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hile Sisa likes to  have a bit of f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C:\Users\rcasanelia\Desktop\boxing\P1000405.JPG"/>
          <p:cNvPicPr/>
          <p:nvPr/>
        </p:nvPicPr>
        <p:blipFill>
          <a:blip r:embed="rId4"/>
          <a:stretch/>
        </p:blipFill>
        <p:spPr>
          <a:xfrm>
            <a:off x="5003640" y="83664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C:\Users\rcasanelia\Desktop\boxing\P1000409.JPG"/>
          <p:cNvPicPr/>
          <p:nvPr/>
        </p:nvPicPr>
        <p:blipFill>
          <a:blip r:embed="rId5"/>
          <a:stretch/>
        </p:blipFill>
        <p:spPr>
          <a:xfrm>
            <a:off x="6948360" y="765000"/>
            <a:ext cx="167652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rcasanelia\Desktop\boxing\P1000410.JPG"/>
          <p:cNvPicPr/>
          <p:nvPr/>
        </p:nvPicPr>
        <p:blipFill>
          <a:blip r:embed="rId6"/>
          <a:stretch/>
        </p:blipFill>
        <p:spPr>
          <a:xfrm>
            <a:off x="5435640" y="3860640"/>
            <a:ext cx="208908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4"/>
          <p:cNvSpPr/>
          <p:nvPr/>
        </p:nvSpPr>
        <p:spPr>
          <a:xfrm>
            <a:off x="5076720" y="5229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izhana wants to start off with a soft jab to the b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6" name="Rectangle 4"/>
          <p:cNvSpPr/>
          <p:nvPr/>
        </p:nvSpPr>
        <p:spPr>
          <a:xfrm>
            <a:off x="539640" y="549360"/>
            <a:ext cx="4038840" cy="54100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92720" y="62064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C:\Users\Rosa\Documents\education folder\term planning\Term 3 2012\photos\P1000939.JPG"/>
          <p:cNvPicPr/>
          <p:nvPr/>
        </p:nvPicPr>
        <p:blipFill>
          <a:blip r:embed="rId3"/>
          <a:stretch/>
        </p:blipFill>
        <p:spPr>
          <a:xfrm>
            <a:off x="1692360" y="1052640"/>
            <a:ext cx="251928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755640" y="1413000"/>
            <a:ext cx="2087640" cy="3568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oom 3 Children loved boxing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Thanks for taking us Per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C:\Users\Rosa\Pictures\IMG000031.jpg"/>
          <p:cNvPicPr/>
          <p:nvPr/>
        </p:nvPicPr>
        <p:blipFill>
          <a:blip r:embed="rId4"/>
          <a:stretch/>
        </p:blipFill>
        <p:spPr>
          <a:xfrm>
            <a:off x="6372360" y="2924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00:30:26Z</dcterms:modified>
  <cp:revision>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