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Musica%20Menu%20Popup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322-97E9-4FE6-B9B1-C64F3813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255-9DAC-45E5-95B7-A91114CD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E88-6A04-4799-A81C-AB3A68DA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547-7023-4D78-8A8C-ACA7E362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674-EB48-44F4-A774-1D23156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C16-216C-461A-8747-1C15AC1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371-B2C8-4A6D-9C64-F3179334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EBE-3E7F-4022-A779-E0136440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5C3-B3F8-4265-9266-F3FF092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9B8-EB7A-4163-AAA3-F7721953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4E9-E7F2-470C-93F3-01CAB5D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842-19F3-4438-80EF-2A1BDF17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4F47-08DB-4D5E-B1AE-846FB8E9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Musica%20Menu%20Popu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Rectangle 4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952880" y="1295280"/>
            <a:ext cx="3291120" cy="228744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Box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Less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290560" y="5334120"/>
            <a:ext cx="2814120" cy="5205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Room 3 Ter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C:\Users\rcasanelia\Desktop\boxing\P1000395.JPG"/>
          <p:cNvPicPr/>
          <p:nvPr/>
        </p:nvPicPr>
        <p:blipFill>
          <a:blip r:embed="rId4"/>
          <a:stretch/>
        </p:blipFill>
        <p:spPr>
          <a:xfrm>
            <a:off x="5508720" y="2924280"/>
            <a:ext cx="2376360" cy="1873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7093080" y="4508640"/>
            <a:ext cx="9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Olli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68360" y="62064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2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Users\rcasanelia\Desktop\boxing\P1000394.JPG"/>
          <p:cNvPicPr/>
          <p:nvPr/>
        </p:nvPicPr>
        <p:blipFill>
          <a:blip r:embed="rId3"/>
          <a:stretch/>
        </p:blipFill>
        <p:spPr>
          <a:xfrm>
            <a:off x="900000" y="1125360"/>
            <a:ext cx="2828880" cy="2016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1042920" y="3284640"/>
            <a:ext cx="25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Boxing keeps us fit and helps us to have good eye and hand co-ord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Ethan has the right at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C:\Users\rcasanelia\Desktop\boxing\P1000391.JPG"/>
          <p:cNvPicPr/>
          <p:nvPr/>
        </p:nvPicPr>
        <p:blipFill>
          <a:blip r:embed="rId4"/>
          <a:stretch/>
        </p:blipFill>
        <p:spPr>
          <a:xfrm>
            <a:off x="7236000" y="1700280"/>
            <a:ext cx="1439640" cy="1512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5003640" y="3357720"/>
            <a:ext cx="338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hloe and Pearl are learning to complete a sequence of boxing moves. Left, right, left, right, left, right, left, right, and then du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f you don’t duck...what might happ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C:\Users\rcasanelia\Desktop\boxing\P1000401.JPG"/>
          <p:cNvPicPr/>
          <p:nvPr/>
        </p:nvPicPr>
        <p:blipFill>
          <a:blip r:embed="rId5"/>
          <a:stretch/>
        </p:blipFill>
        <p:spPr>
          <a:xfrm>
            <a:off x="5003640" y="907920"/>
            <a:ext cx="2160720" cy="2233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62064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258920" y="5157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219640" y="3213000"/>
            <a:ext cx="273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Letia, Deijahna, Julyan and Lavinia are passing the medicine balls to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hese balls are very, very heavy so don’t drop them on your fee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" descr="C:\Users\rcasanelia\Desktop\boxing\P1000392.JPG"/>
          <p:cNvPicPr/>
          <p:nvPr/>
        </p:nvPicPr>
        <p:blipFill>
          <a:blip r:embed="rId2"/>
          <a:stretch/>
        </p:blipFill>
        <p:spPr>
          <a:xfrm>
            <a:off x="971640" y="90792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rcasanelia\Desktop\boxing\P1000414.JPG"/>
          <p:cNvPicPr/>
          <p:nvPr/>
        </p:nvPicPr>
        <p:blipFill>
          <a:blip r:embed="rId3"/>
          <a:stretch/>
        </p:blipFill>
        <p:spPr>
          <a:xfrm>
            <a:off x="1187280" y="4221000"/>
            <a:ext cx="2232360" cy="1368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611280" y="292428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kipping is important for fitness. It helps to tone our leg muscles. Leomay (above) and Lavinia (below) are fantastic skippers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3" descr="C:\Users\rcasanelia\Desktop\boxing\P1000400.JPG"/>
          <p:cNvPicPr/>
          <p:nvPr/>
        </p:nvPicPr>
        <p:blipFill>
          <a:blip r:embed="rId4"/>
          <a:stretch/>
        </p:blipFill>
        <p:spPr>
          <a:xfrm>
            <a:off x="5219640" y="907920"/>
            <a:ext cx="267660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716360" y="692280"/>
            <a:ext cx="403884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62064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39640" y="321300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oman is serious about his training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5076720" y="2781360"/>
            <a:ext cx="32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evita and Cyrus are ready to start their routines. Gloves up boy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C:\Users\rcasanelia\Desktop\boxing\P1000413.JPG"/>
          <p:cNvPicPr/>
          <p:nvPr/>
        </p:nvPicPr>
        <p:blipFill>
          <a:blip r:embed="rId2"/>
          <a:stretch/>
        </p:blipFill>
        <p:spPr>
          <a:xfrm>
            <a:off x="826920" y="90792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C:\Users\rcasanelia\Desktop\boxing\P1000396.JPG"/>
          <p:cNvPicPr/>
          <p:nvPr/>
        </p:nvPicPr>
        <p:blipFill>
          <a:blip r:embed="rId3"/>
          <a:stretch/>
        </p:blipFill>
        <p:spPr>
          <a:xfrm>
            <a:off x="2050920" y="3645000"/>
            <a:ext cx="22068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/>
          <p:cNvSpPr/>
          <p:nvPr/>
        </p:nvSpPr>
        <p:spPr>
          <a:xfrm>
            <a:off x="611280" y="4149720"/>
            <a:ext cx="122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hile Sisa likes to  have a bit of f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3" descr="C:\Users\rcasanelia\Desktop\boxing\P1000405.JPG"/>
          <p:cNvPicPr/>
          <p:nvPr/>
        </p:nvPicPr>
        <p:blipFill>
          <a:blip r:embed="rId4"/>
          <a:stretch/>
        </p:blipFill>
        <p:spPr>
          <a:xfrm>
            <a:off x="5003640" y="836640"/>
            <a:ext cx="172908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C:\Users\rcasanelia\Desktop\boxing\P1000409.JPG"/>
          <p:cNvPicPr/>
          <p:nvPr/>
        </p:nvPicPr>
        <p:blipFill>
          <a:blip r:embed="rId5"/>
          <a:stretch/>
        </p:blipFill>
        <p:spPr>
          <a:xfrm>
            <a:off x="6948360" y="765000"/>
            <a:ext cx="1676520" cy="180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rcasanelia\Desktop\boxing\P1000410.JPG"/>
          <p:cNvPicPr/>
          <p:nvPr/>
        </p:nvPicPr>
        <p:blipFill>
          <a:blip r:embed="rId6"/>
          <a:stretch/>
        </p:blipFill>
        <p:spPr>
          <a:xfrm>
            <a:off x="5435640" y="3860640"/>
            <a:ext cx="2089080" cy="1297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14"/>
          <p:cNvSpPr/>
          <p:nvPr/>
        </p:nvSpPr>
        <p:spPr>
          <a:xfrm>
            <a:off x="5076720" y="522936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izhana wants to start off with a soft jab to the ba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6" name="Rectangle 4"/>
          <p:cNvSpPr/>
          <p:nvPr/>
        </p:nvSpPr>
        <p:spPr>
          <a:xfrm>
            <a:off x="539640" y="549360"/>
            <a:ext cx="4038840" cy="54100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92720" y="62064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m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C:\Users\Rosa\Documents\education folder\term planning\Term 3 2012\photos\P1000939.JPG"/>
          <p:cNvPicPr/>
          <p:nvPr/>
        </p:nvPicPr>
        <p:blipFill>
          <a:blip r:embed="rId3"/>
          <a:stretch/>
        </p:blipFill>
        <p:spPr>
          <a:xfrm>
            <a:off x="1692360" y="1052640"/>
            <a:ext cx="2519280" cy="3816360"/>
          </a:xfrm>
          <a:prstGeom prst="rect">
            <a:avLst/>
          </a:prstGeom>
          <a:ln w="0">
            <a:noFill/>
          </a:ln>
        </p:spPr>
      </p:pic>
      <p:sp>
        <p:nvSpPr>
          <p:cNvPr id="89" name="TextBox 10"/>
          <p:cNvSpPr/>
          <p:nvPr/>
        </p:nvSpPr>
        <p:spPr>
          <a:xfrm>
            <a:off x="755640" y="1413000"/>
            <a:ext cx="2087640" cy="3568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Room 3 Children loved boxing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Thanks for taking us Perr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C:\Users\Rosa\Pictures\IMG000031.jpg"/>
          <p:cNvPicPr/>
          <p:nvPr/>
        </p:nvPicPr>
        <p:blipFill>
          <a:blip r:embed="rId4"/>
          <a:stretch/>
        </p:blipFill>
        <p:spPr>
          <a:xfrm>
            <a:off x="6372360" y="29242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4 0.02197 C -0.2684 0.01133 -0.25434 0.0007 -0.24948 0.0007 C -0.2184 0.0007 -0.18646 0.16717 -0.18646 0.33364 C -0.18646 0.24971 -0.17049 0.16717 -0.15538 0.16717 C -0.13941 0.16717 -0.12431 0.2511 -0.12431 0.33364 C -0.12431 0.29226 -0.11632 0.24971 -0.10833 0.24971 C -0.10035 0.24971 -0.09236 0.2911 -0.09236 0.33364 C -0.09236 0.31237 -0.08837 0.29226 -0.08438 0.29226 C -0.08038 0.29226 -0.07639 0.31353 -0.07639 0.33364 C -0.07639 0.32301 -0.07431 0.31237 -0.0724 0.31237 C -0.07136 0.31237 -0.0684 0.32301 -0.0684 0.33364 C -0.0684 0.32833 -0.06736 0.32301 -0.06632 0.32301 C -0.06632 0.3244 -0.06424 0.32833 -0.06424 0.33364 C -0.06424 0.33087 -0.06424 0.32833 -0.0632 0.32833 C -0.0632 0.32971 -0.06215 0.3311 -0.06215 0.33364 C -0.06215 0.33226 -0.06215 0.33087 -0.06215 0.32971 C -0.06111 0.32971 -0.06111 0.3311 -0.06111 0.33249 C -0.06007 0.33249 -0.06007 0.3311 -0.06007 0.32971 C -0.05903 0.32971 -0.05903 0.3311 -0.05903 0.33249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Rosa</cp:lastModifiedBy>
  <dcterms:modified xsi:type="dcterms:W3CDTF">2013-05-12T00:30:26Z</dcterms:modified>
  <cp:revision>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