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18.jpeg" ContentType="image/jpeg"/>
  <Override PartName="/ppt/media/Musica%20Menu%20Popup.wav" ContentType="audio/x-wav"/>
  <Override PartName="/ppt/media/image21.jpeg" ContentType="image/jpeg"/>
  <Override PartName="/ppt/media/image16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D75D-B278-4D29-85A8-032F25B2E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E4E4-A7E7-4403-BCE2-D674295C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A288-9BD8-40D9-A4D9-FA6B31E2D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2505-70D2-4128-8AF1-A88050EA4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0162-72D5-4FE0-BC3E-94BBEB56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B8E8-BB03-4AAC-8181-DBCB53BD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819B-DA37-4C72-9A74-0D2A5D2E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14E7-2869-42AC-BA6D-6520CA86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CDAB-3559-440D-B35C-C72B420D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44B3-6AB3-41A4-9E94-237AB408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F20D-6035-4E3C-B776-8A946633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8380-F98B-497E-A5DA-60AF1A25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6CD3-F794-40EF-85F1-E3BB59EC0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Utopia%20Restore%20Up.wav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Utopia%20Restore%20Up.wav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Utopia%20Restore%20Up.wav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Utopia%20Restore%20Up.wav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Utopia%20Restore%20Up.wav" TargetMode="External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Utopia%20Restore%20Up.wav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image" Target="../media/image24.jpeg"/><Relationship Id="rId13" Type="http://schemas.openxmlformats.org/officeDocument/2006/relationships/image" Target="../media/image25.jpe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6.jpeg"/><Relationship Id="rId4" Type="http://schemas.openxmlformats.org/officeDocument/2006/relationships/hyperlink" Target="http://www.google.co.nz/url?sa=i&amp;rct=j&amp;q=butterfies+in+flight&amp;source=images&amp;cd=&amp;cad=rja&amp;docid=Sc5KLrAh0fJjMM&amp;tbnid=xY3zqSJzjMCZlM:&amp;ved=0CAUQjRw&amp;url=http%3A%2F%2Fwww.butterflyutopia.com%2Ftestimonials.html&amp;ei=rLyOUZjHJIGHlAX4y4CYCg&amp;bvm=bv.46340616,d.aGc&amp;psig=AFQjCNEzuTkJdK8qJa3inGhJkhftHQQiug&amp;ust=1368395275832969" TargetMode="External"/><Relationship Id="rId5" Type="http://schemas.openxmlformats.org/officeDocument/2006/relationships/image" Target="../media/image27.jpeg"/><Relationship Id="rId6" Type="http://schemas.openxmlformats.org/officeDocument/2006/relationships/audio" Target="../media/Musica%20Menu%20Popup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4495680" y="609480"/>
            <a:ext cx="228600" cy="54104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C:\My Documents\POwerpoint\Pams-book\Cover.jpg"/>
          <p:cNvPicPr/>
          <p:nvPr/>
        </p:nvPicPr>
        <p:blipFill>
          <a:blip r:embed="rId2"/>
          <a:stretch/>
        </p:blipFill>
        <p:spPr>
          <a:xfrm>
            <a:off x="4724280" y="609480"/>
            <a:ext cx="4073760" cy="54468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43" name="Rectangle 4"/>
          <p:cNvSpPr/>
          <p:nvPr/>
        </p:nvSpPr>
        <p:spPr>
          <a:xfrm>
            <a:off x="4643280" y="620640"/>
            <a:ext cx="4038840" cy="54104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33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4952880" y="1295280"/>
            <a:ext cx="3756240" cy="3018600"/>
          </a:xfrm>
          <a:prstGeom prst="rect">
            <a:avLst/>
          </a:prstGeom>
          <a:noFill/>
          <a:ln w="0">
            <a:noFill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9900"/>
                </a:solidFill>
                <a:latin typeface="Comic Sans MS"/>
              </a:rPr>
              <a:t>A Minibea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9900"/>
                </a:solidFill>
                <a:latin typeface="Comic Sans MS"/>
              </a:rPr>
              <a:t>Fairy ta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5284800" y="5334120"/>
            <a:ext cx="2126880" cy="520560"/>
          </a:xfrm>
          <a:prstGeom prst="rect">
            <a:avLst/>
          </a:prstGeom>
          <a:noFill/>
          <a:ln w="0">
            <a:noFill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By Room 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10">
            <a:hlinkClick r:id="" action="ppaction://hlinkshowjump?jump=nextslide"/>
            <a:hlinkClick r:id="rId3"/>
          </p:cNvPr>
          <p:cNvSpPr/>
          <p:nvPr/>
        </p:nvSpPr>
        <p:spPr>
          <a:xfrm>
            <a:off x="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9" descr="C:\Users\rcasanelia\Desktop\Term 2 2013\photos\P1000500.JPG"/>
          <p:cNvPicPr/>
          <p:nvPr/>
        </p:nvPicPr>
        <p:blipFill>
          <a:blip r:embed="rId4"/>
          <a:stretch/>
        </p:blipFill>
        <p:spPr>
          <a:xfrm>
            <a:off x="5796000" y="3141720"/>
            <a:ext cx="1808280" cy="1482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380880" y="533520"/>
            <a:ext cx="8610840" cy="56386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cc99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4495680" y="685800"/>
            <a:ext cx="228600" cy="52578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4724280" y="609480"/>
            <a:ext cx="4038840" cy="54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se small child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anted to study smal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mall creatures call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nibea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 their teacher 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K! We’ll do it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children w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 excited they ye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Yeah!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very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BI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o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457200" y="609480"/>
            <a:ext cx="4038480" cy="54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nce upon a time in a 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las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t a small schoo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a sm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wn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re were some sm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Year 3 childr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2">
            <a:hlinkClick r:id="" action="ppaction://hlinkshowjump?jump=nextslide"/>
            <a:hlinkClick r:id="rId2"/>
          </p:cNvPr>
          <p:cNvSpPr/>
          <p:nvPr/>
        </p:nvSpPr>
        <p:spPr>
          <a:xfrm>
            <a:off x="0" y="632304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9"/>
          <p:cNvSpPr/>
          <p:nvPr/>
        </p:nvSpPr>
        <p:spPr>
          <a:xfrm>
            <a:off x="380880" y="533520"/>
            <a:ext cx="8610840" cy="56386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cc99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4495680" y="685800"/>
            <a:ext cx="228600" cy="52578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724280" y="609480"/>
            <a:ext cx="4038840" cy="54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457200" y="609480"/>
            <a:ext cx="4038480" cy="54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HHHHHHHHHHH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aid their teac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nibeasts are smal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mal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creatures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y don’t like bi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BI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oi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e need to be ver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ery, quiet when we l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or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2">
            <a:hlinkClick r:id="" action="ppaction://hlinkshowjump?jump=nextslide"/>
            <a:hlinkClick r:id="rId1"/>
          </p:cNvPr>
          <p:cNvSpPr/>
          <p:nvPr/>
        </p:nvSpPr>
        <p:spPr>
          <a:xfrm>
            <a:off x="0" y="632304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C:\Users\rcasanelia\Desktop\Term 2 2013\photos\P1000513.JPG"/>
          <p:cNvPicPr/>
          <p:nvPr/>
        </p:nvPicPr>
        <p:blipFill>
          <a:blip r:embed="rId2"/>
          <a:stretch/>
        </p:blipFill>
        <p:spPr>
          <a:xfrm>
            <a:off x="5148360" y="1197000"/>
            <a:ext cx="3135240" cy="2016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7"/>
          <p:cNvSpPr/>
          <p:nvPr/>
        </p:nvSpPr>
        <p:spPr>
          <a:xfrm>
            <a:off x="5148360" y="3357720"/>
            <a:ext cx="309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o, the small children in room 3 went out to search for 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Minibeasts around the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9"/>
          <p:cNvSpPr/>
          <p:nvPr/>
        </p:nvSpPr>
        <p:spPr>
          <a:xfrm>
            <a:off x="380880" y="533520"/>
            <a:ext cx="8610840" cy="56386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cc99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495680" y="685800"/>
            <a:ext cx="228600" cy="52578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4724280" y="609480"/>
            <a:ext cx="4038840" cy="54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hhh” said the teach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ose 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minibeast fairies f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only at Taitoko Schoo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y make themselv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visible to goo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quiet speaking children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457200" y="609480"/>
            <a:ext cx="4038480" cy="54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y found bees suck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ectar from flowers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piders spinn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ir web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uddenly, one chil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potted someth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trange in a clump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lan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hat are the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inibeasts called?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he whispe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2">
            <a:hlinkClick r:id="" action="ppaction://hlinkshowjump?jump=nextslide"/>
            <a:hlinkClick r:id="rId1"/>
          </p:cNvPr>
          <p:cNvSpPr/>
          <p:nvPr/>
        </p:nvSpPr>
        <p:spPr>
          <a:xfrm>
            <a:off x="0" y="632304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8" descr="C:\Users\rcasanelia\Desktop\Term 2 2013\photos\P1000515.JPG"/>
          <p:cNvPicPr/>
          <p:nvPr/>
        </p:nvPicPr>
        <p:blipFill>
          <a:blip r:embed="rId2"/>
          <a:stretch/>
        </p:blipFill>
        <p:spPr>
          <a:xfrm>
            <a:off x="1403280" y="765000"/>
            <a:ext cx="2303640" cy="1373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C:\Users\rcasanelia\Desktop\Term 2 2013\photos\P1000505.JPG"/>
          <p:cNvPicPr/>
          <p:nvPr/>
        </p:nvPicPr>
        <p:blipFill>
          <a:blip r:embed="rId3"/>
          <a:stretch/>
        </p:blipFill>
        <p:spPr>
          <a:xfrm>
            <a:off x="5076720" y="765000"/>
            <a:ext cx="1295640" cy="676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C:\Users\rcasanelia\Desktop\Term 2 2013\photos\P1000504.JPG"/>
          <p:cNvPicPr/>
          <p:nvPr/>
        </p:nvPicPr>
        <p:blipFill>
          <a:blip r:embed="rId4"/>
          <a:stretch/>
        </p:blipFill>
        <p:spPr>
          <a:xfrm>
            <a:off x="6948360" y="907920"/>
            <a:ext cx="809640" cy="649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C:\Users\rcasanelia\Desktop\Term 2 2013\photos\P1000506.JPG"/>
          <p:cNvPicPr/>
          <p:nvPr/>
        </p:nvPicPr>
        <p:blipFill>
          <a:blip r:embed="rId5"/>
          <a:stretch/>
        </p:blipFill>
        <p:spPr>
          <a:xfrm>
            <a:off x="5148360" y="4581360"/>
            <a:ext cx="1150920" cy="695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C:\Users\rcasanelia\Desktop\Term 2 2013\photos\P1000500.JPG"/>
          <p:cNvPicPr/>
          <p:nvPr/>
        </p:nvPicPr>
        <p:blipFill>
          <a:blip r:embed="rId6"/>
          <a:stretch/>
        </p:blipFill>
        <p:spPr>
          <a:xfrm>
            <a:off x="6804000" y="4508640"/>
            <a:ext cx="868320" cy="860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C:\Users\rcasanelia\Desktop\Term 2 2013\photos\P1000502.JPG"/>
          <p:cNvPicPr/>
          <p:nvPr/>
        </p:nvPicPr>
        <p:blipFill>
          <a:blip r:embed="rId7"/>
          <a:stretch/>
        </p:blipFill>
        <p:spPr>
          <a:xfrm>
            <a:off x="5940360" y="1628640"/>
            <a:ext cx="808200" cy="586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C:\Users\rcasanelia\Desktop\Term 2 2013\photos\P1000498.JPG"/>
          <p:cNvPicPr/>
          <p:nvPr/>
        </p:nvPicPr>
        <p:blipFill>
          <a:blip r:embed="rId8"/>
          <a:stretch/>
        </p:blipFill>
        <p:spPr>
          <a:xfrm>
            <a:off x="7524720" y="1628640"/>
            <a:ext cx="934920" cy="6397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9"/>
          <p:cNvSpPr/>
          <p:nvPr/>
        </p:nvSpPr>
        <p:spPr>
          <a:xfrm>
            <a:off x="380880" y="533520"/>
            <a:ext cx="8610840" cy="56386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cc99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495680" y="685800"/>
            <a:ext cx="228600" cy="52578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4788000" y="692280"/>
            <a:ext cx="4038480" cy="54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a flash, the fai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easts disappeared and 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children could s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ere masses of butterf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loating in the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395280" y="692280"/>
            <a:ext cx="4038480" cy="518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2">
            <a:hlinkClick r:id="" action="ppaction://hlinkshowjump?jump=nextslide"/>
            <a:hlinkClick r:id="rId1"/>
          </p:cNvPr>
          <p:cNvSpPr/>
          <p:nvPr/>
        </p:nvSpPr>
        <p:spPr>
          <a:xfrm>
            <a:off x="0" y="632304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5724360" y="1628640"/>
            <a:ext cx="2276640" cy="1708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0" descr="T:\2013\PB4L Photos 2013\Reid Marshall.JPG"/>
          <p:cNvPicPr/>
          <p:nvPr/>
        </p:nvPicPr>
        <p:blipFill>
          <a:blip r:embed="rId3"/>
          <a:stretch/>
        </p:blipFill>
        <p:spPr>
          <a:xfrm>
            <a:off x="1476360" y="2989440"/>
            <a:ext cx="2563920" cy="2458800"/>
          </a:xfrm>
          <a:prstGeom prst="rect">
            <a:avLst/>
          </a:prstGeom>
          <a:ln w="0">
            <a:noFill/>
          </a:ln>
        </p:spPr>
      </p:pic>
      <p:sp>
        <p:nvSpPr>
          <p:cNvPr id="79" name="Rounded Rectangular Callout 23"/>
          <p:cNvSpPr/>
          <p:nvPr/>
        </p:nvSpPr>
        <p:spPr>
          <a:xfrm>
            <a:off x="684360" y="1268280"/>
            <a:ext cx="3456000" cy="1152720"/>
          </a:xfrm>
          <a:prstGeom prst="wedgeRoundRectCallout">
            <a:avLst>
              <a:gd name="adj1" fmla="val -10185"/>
              <a:gd name="adj2" fmla="val 13410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That’s weird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” yelled  Marshal. “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They look like us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9"/>
          <p:cNvSpPr/>
          <p:nvPr/>
        </p:nvSpPr>
        <p:spPr>
          <a:xfrm>
            <a:off x="380880" y="533520"/>
            <a:ext cx="8610840" cy="56386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cc99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4495680" y="685800"/>
            <a:ext cx="228600" cy="52578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4859280" y="836640"/>
            <a:ext cx="4038480" cy="54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unnily enough! They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d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ook like some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ildren in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395280" y="692280"/>
            <a:ext cx="4038480" cy="518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a 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las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t a small schoo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a sm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wn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re were some very sm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iry minibea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at were lucki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ught on pho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12">
            <a:hlinkClick r:id="" action="ppaction://hlinkshowjump?jump=nextslide"/>
            <a:hlinkClick r:id="rId1"/>
          </p:cNvPr>
          <p:cNvSpPr/>
          <p:nvPr/>
        </p:nvSpPr>
        <p:spPr>
          <a:xfrm>
            <a:off x="0" y="632304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7" descr="C:\Users\rcasanelia\Desktop\Term 2 2013\photos\P1000505.JPG"/>
          <p:cNvPicPr/>
          <p:nvPr/>
        </p:nvPicPr>
        <p:blipFill>
          <a:blip r:embed="rId2"/>
          <a:stretch/>
        </p:blipFill>
        <p:spPr>
          <a:xfrm>
            <a:off x="4932360" y="2421000"/>
            <a:ext cx="865080" cy="745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4" descr="T:\2013\PB4L Photos 2013\Whareaitu Leomay.JPG"/>
          <p:cNvPicPr/>
          <p:nvPr/>
        </p:nvPicPr>
        <p:blipFill>
          <a:blip r:embed="rId3"/>
          <a:stretch/>
        </p:blipFill>
        <p:spPr>
          <a:xfrm>
            <a:off x="5867280" y="2421000"/>
            <a:ext cx="792360" cy="749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C:\Users\rcasanelia\Desktop\Term 2 2013\photos\P1000504.JPG"/>
          <p:cNvPicPr/>
          <p:nvPr/>
        </p:nvPicPr>
        <p:blipFill>
          <a:blip r:embed="rId4"/>
          <a:stretch/>
        </p:blipFill>
        <p:spPr>
          <a:xfrm>
            <a:off x="6732720" y="2421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\\DC1\Teachers\RCasanelia\Documents\PB4L Photos 2012\Baker Pearce.JPG"/>
          <p:cNvPicPr/>
          <p:nvPr/>
        </p:nvPicPr>
        <p:blipFill>
          <a:blip r:embed="rId5"/>
          <a:stretch/>
        </p:blipFill>
        <p:spPr>
          <a:xfrm>
            <a:off x="7596360" y="234936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6" descr="T:\2013\PB4L Photos 2013\Seu Ollie.JPG"/>
          <p:cNvPicPr/>
          <p:nvPr/>
        </p:nvPicPr>
        <p:blipFill>
          <a:blip r:embed="rId6"/>
          <a:stretch/>
        </p:blipFill>
        <p:spPr>
          <a:xfrm>
            <a:off x="5003640" y="3357720"/>
            <a:ext cx="684360" cy="647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C:\Users\rcasanelia\Desktop\Term 2 2013\photos\P1000500.JPG"/>
          <p:cNvPicPr/>
          <p:nvPr/>
        </p:nvPicPr>
        <p:blipFill>
          <a:blip r:embed="rId7"/>
          <a:stretch/>
        </p:blipFill>
        <p:spPr>
          <a:xfrm>
            <a:off x="5796000" y="3284640"/>
            <a:ext cx="725400" cy="716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C:\Users\rcasanelia\Desktop\Term 2 2013\photos\P1000506.JPG"/>
          <p:cNvPicPr/>
          <p:nvPr/>
        </p:nvPicPr>
        <p:blipFill>
          <a:blip r:embed="rId8"/>
          <a:stretch/>
        </p:blipFill>
        <p:spPr>
          <a:xfrm>
            <a:off x="6659640" y="3284640"/>
            <a:ext cx="757080" cy="720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7" descr="T:\2013\PB4L Photos 2013\Van Der Wal Tizhana.JPG"/>
          <p:cNvPicPr/>
          <p:nvPr/>
        </p:nvPicPr>
        <p:blipFill>
          <a:blip r:embed="rId9"/>
          <a:stretch/>
        </p:blipFill>
        <p:spPr>
          <a:xfrm>
            <a:off x="7524720" y="3213000"/>
            <a:ext cx="749160" cy="792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8" descr="T:\2013\PB4L Photos 2013\Tepu Letia.JPG"/>
          <p:cNvPicPr/>
          <p:nvPr/>
        </p:nvPicPr>
        <p:blipFill>
          <a:blip r:embed="rId10"/>
          <a:stretch/>
        </p:blipFill>
        <p:spPr>
          <a:xfrm>
            <a:off x="5076720" y="4178160"/>
            <a:ext cx="790560" cy="658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C:\Users\rcasanelia\Desktop\Term 2 2013\photos\P1000498.JPG"/>
          <p:cNvPicPr/>
          <p:nvPr/>
        </p:nvPicPr>
        <p:blipFill>
          <a:blip r:embed="rId11"/>
          <a:stretch/>
        </p:blipFill>
        <p:spPr>
          <a:xfrm>
            <a:off x="5940360" y="4149720"/>
            <a:ext cx="719280" cy="64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C:\Users\rcasanelia\Desktop\Term 2 2013\photos\P1000502.JPG"/>
          <p:cNvPicPr/>
          <p:nvPr/>
        </p:nvPicPr>
        <p:blipFill>
          <a:blip r:embed="rId12"/>
          <a:stretch/>
        </p:blipFill>
        <p:spPr>
          <a:xfrm>
            <a:off x="6732720" y="4149720"/>
            <a:ext cx="792000" cy="719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9" descr="T:\2013\PB4L Photos 2013\Tapui Tevita.JPG"/>
          <p:cNvPicPr/>
          <p:nvPr/>
        </p:nvPicPr>
        <p:blipFill>
          <a:blip r:embed="rId13"/>
          <a:stretch/>
        </p:blipFill>
        <p:spPr>
          <a:xfrm>
            <a:off x="7667640" y="40766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97" name="TextBox 20"/>
          <p:cNvSpPr/>
          <p:nvPr/>
        </p:nvSpPr>
        <p:spPr>
          <a:xfrm>
            <a:off x="5219640" y="508464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What an uncanny  resemblanc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21"/>
          <p:cNvSpPr/>
          <p:nvPr/>
        </p:nvSpPr>
        <p:spPr>
          <a:xfrm>
            <a:off x="521964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Leom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24"/>
          <p:cNvSpPr/>
          <p:nvPr/>
        </p:nvSpPr>
        <p:spPr>
          <a:xfrm>
            <a:off x="7093080" y="306864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Pea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25"/>
          <p:cNvSpPr/>
          <p:nvPr/>
        </p:nvSpPr>
        <p:spPr>
          <a:xfrm>
            <a:off x="5580000" y="386064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Oll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26"/>
          <p:cNvSpPr/>
          <p:nvPr/>
        </p:nvSpPr>
        <p:spPr>
          <a:xfrm>
            <a:off x="7093080" y="386064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Tizh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27"/>
          <p:cNvSpPr/>
          <p:nvPr/>
        </p:nvSpPr>
        <p:spPr>
          <a:xfrm>
            <a:off x="5651640" y="479736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Let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28"/>
          <p:cNvSpPr/>
          <p:nvPr/>
        </p:nvSpPr>
        <p:spPr>
          <a:xfrm>
            <a:off x="7236000" y="472428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Tev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4495680" y="609480"/>
            <a:ext cx="228600" cy="54104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C:\My Documents\POwerpoint\Pams-book\Cover.jpg"/>
          <p:cNvPicPr/>
          <p:nvPr/>
        </p:nvPicPr>
        <p:blipFill>
          <a:blip r:embed="rId2"/>
          <a:stretch/>
        </p:blipFill>
        <p:spPr>
          <a:xfrm>
            <a:off x="533520" y="609480"/>
            <a:ext cx="4073400" cy="5446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6" name="Rectangle 4"/>
          <p:cNvSpPr/>
          <p:nvPr/>
        </p:nvSpPr>
        <p:spPr>
          <a:xfrm>
            <a:off x="533520" y="609480"/>
            <a:ext cx="4038480" cy="54104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33"/>
              </a:gs>
            </a:gsLst>
            <a:lin ang="0"/>
          </a:gra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The en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5334120" y="609480"/>
            <a:ext cx="35049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reat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oom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ild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th a little help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ea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s Casane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6" descr="C:\Users\Rosa\Pictures\IMG000032.jpg"/>
          <p:cNvPicPr/>
          <p:nvPr/>
        </p:nvPicPr>
        <p:blipFill>
          <a:blip r:embed="rId3"/>
          <a:stretch/>
        </p:blipFill>
        <p:spPr>
          <a:xfrm>
            <a:off x="6443640" y="46530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http://www.butterflyutopia.com/BIG/485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042920" y="836640"/>
            <a:ext cx="2952720" cy="3313080"/>
          </a:xfrm>
          <a:prstGeom prst="rect">
            <a:avLst/>
          </a:prstGeom>
          <a:ln w="0">
            <a:noFill/>
          </a:ln>
        </p:spPr>
      </p:pic>
      <p:sp>
        <p:nvSpPr>
          <p:cNvPr id="110" name="Rounded Rectangular Callout 8"/>
          <p:cNvSpPr/>
          <p:nvPr/>
        </p:nvSpPr>
        <p:spPr>
          <a:xfrm>
            <a:off x="7667640" y="4076640"/>
            <a:ext cx="936720" cy="504720"/>
          </a:xfrm>
          <a:prstGeom prst="wedgeRoundRectCallout">
            <a:avLst>
              <a:gd name="adj1" fmla="val -73111"/>
              <a:gd name="adj2" fmla="val 8885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imes New Roman"/>
              </a:rPr>
              <a:t>Ha! Ha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usica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1T12:13:16Z</dcterms:created>
  <dc:creator>Ian Bean</dc:creator>
  <dc:description/>
  <dc:language>en-US</dc:language>
  <cp:lastModifiedBy>Rosa</cp:lastModifiedBy>
  <dcterms:modified xsi:type="dcterms:W3CDTF">2013-05-12T07:20:17Z</dcterms:modified>
  <cp:revision>5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3</vt:r8>
  </property>
  <property fmtid="{D5CDD505-2E9C-101B-9397-08002B2CF9AE}" pid="8" name="HomePage">
    <vt:lpwstr>http://freespeace.virginnet.co.uk/ian.priorywoods/index.html</vt:lpwstr>
  </property>
  <property fmtid="{D5CDD505-2E9C-101B-9397-08002B2CF9AE}" pid="9" name="LinkColor">
    <vt:r8>16711782</vt:r8>
  </property>
  <property fmtid="{D5CDD505-2E9C-101B-9397-08002B2CF9AE}" pid="10" name="MailAddress">
    <vt:lpwstr>ian.priorywoods@virginnet.co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temp\Powertest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